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F3A79-75BD-4FB0-9062-27C8DBCDE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D9688-2211-4270-ADF8-8F009650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7F402-2EC3-47FD-A935-4E6642B62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4610C-ACEE-4410-AA39-0BF8B30AC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E7F76B-89B7-41FA-94E1-7AEDD837E7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4FB77-631F-4C09-BA2B-C32B0014B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4A011-BE18-4EF3-AB32-F3D1960DD7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164E76-9E88-4866-A518-0335A5F28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B2D88-4F58-46F8-AB46-729BB3C0D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D4DBB-241C-4A99-B534-9224D9C44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680A7-BB68-4624-B2C6-B192E6FE0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60AF-DFEF-4F8A-AFA7-8597D69A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5767E-723B-4F81-803C-81E89772E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ABECA-DA33-4A52-A1B6-B5186CDD1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72220-1EE9-4C4B-B459-F32FE8A66B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FEE91-D506-4500-BC32-79B0536C0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025E25-36AA-484D-B372-55364939E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389A-2116-4149-8606-9D7B7C73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33C8-47DF-4D9B-A5F6-ED1C19C3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D2ED6-F8FF-4FFD-B58C-73DE5528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264E4-F2FE-430E-BDA2-4AD8CBFB7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B152F-257A-414A-BDAD-3B56DFB45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7732-E4DF-431A-9DE1-D422A520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dd7df"/>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DE84E-61E6-4868-A1CF-5E0702199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6600cc"/>
                </a:gs>
                <a:gs pos="100000">
                  <a:srgbClr val="4b00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b0096"/>
                  </a:gs>
                  <a:gs pos="100000">
                    <a:srgbClr val="6600cc"/>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7850ba"/>
                  </a:gs>
                  <a:gs pos="100000">
                    <a:srgbClr val="6600cc"/>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6600cc"/>
                  </a:gs>
                  <a:gs pos="100000">
                    <a:srgbClr val="7850ba"/>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9517-707D-4563-87C4-D61B106ECDD9}" type="datetime">
              <a:rPr b="0" lang="fr-FR" sz="1000" spc="-1" strike="noStrike">
                <a:solidFill>
                  <a:srgbClr val="ffffff"/>
                </a:solidFill>
                <a:latin typeface="Tahoma"/>
              </a:rPr>
              <a:t>28/07/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419E-E4EF-4005-80E1-0432EE56239B}"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6600cc"/>
                  </a:gs>
                  <a:gs pos="100000">
                    <a:srgbClr val="4b00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7850ba"/>
                </a:gs>
                <a:gs pos="50000">
                  <a:srgbClr val="00ccff"/>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6600cc"/>
                </a:gs>
                <a:gs pos="100000">
                  <a:srgbClr val="7850ba"/>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7850ba"/>
                </a:gs>
                <a:gs pos="100000">
                  <a:srgbClr val="6600cc"/>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4b0096"/>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6600cc"/>
                  </a:gs>
                  <a:gs pos="100000">
                    <a:srgbClr val="4b009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4b0096"/>
                  </a:gs>
                  <a:gs pos="100000">
                    <a:srgbClr val="6600cc"/>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7850ba"/>
                  </a:gs>
                  <a:gs pos="100000">
                    <a:srgbClr val="6600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6600cc"/>
                  </a:gs>
                  <a:gs pos="100000">
                    <a:srgbClr val="7850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7850ba"/>
                  </a:gs>
                  <a:gs pos="50000">
                    <a:srgbClr val="00ccff"/>
                  </a:gs>
                  <a:gs pos="100000">
                    <a:srgbClr val="7850ba"/>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dd7df"/>
                </a:solidFill>
                <a:latin typeface="Tahoma"/>
              </a:rPr>
              <a:t>Click to edit the title text format</a:t>
            </a:r>
            <a:endParaRPr b="1" lang="en-US" sz="4400" spc="-1" strike="noStrike">
              <a:solidFill>
                <a:srgbClr val="cdd7df"/>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9E10-A7E6-4042-854F-0A645E6578E9}" type="datetime">
              <a:rPr b="0" lang="fr-FR" sz="1000" spc="-1" strike="noStrike">
                <a:solidFill>
                  <a:srgbClr val="ffffff"/>
                </a:solidFill>
                <a:latin typeface="Tahoma"/>
              </a:rPr>
              <a:t>28/07/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C53C-8027-45F1-8B2E-B80BC5AFED9A}" type="slidenum">
              <a:rPr b="0" lang="fr-FR"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07640" y="3249360"/>
            <a:ext cx="7543800" cy="1522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cdd7df"/>
                </a:solidFill>
                <a:latin typeface="Tahoma"/>
              </a:rPr>
              <a:t>République du Sénégal</a:t>
            </a:r>
            <a:br>
              <a:rPr sz="3700"/>
            </a:br>
            <a:br>
              <a:rPr sz="3700"/>
            </a:br>
            <a:r>
              <a:rPr b="1" lang="fr-FR" sz="3700" spc="-1" strike="noStrike">
                <a:solidFill>
                  <a:srgbClr val="cdd7df"/>
                </a:solidFill>
                <a:latin typeface="Tahoma"/>
              </a:rPr>
              <a:t>Profil du secteur urbain au Sénégal</a:t>
            </a:r>
            <a:br>
              <a:rPr sz="3700"/>
            </a:br>
            <a:br>
              <a:rPr sz="3700"/>
            </a:br>
            <a:br>
              <a:rPr sz="3700"/>
            </a:br>
            <a:r>
              <a:rPr b="1" lang="fr-FR" sz="3700" spc="-1" strike="noStrike">
                <a:solidFill>
                  <a:srgbClr val="cdd7df"/>
                </a:solidFill>
                <a:latin typeface="Tahoma"/>
              </a:rPr>
              <a:t>IAGU</a:t>
            </a:r>
            <a:r>
              <a:rPr b="1" lang="fr-FR" sz="3700" spc="-1" strike="noStrike">
                <a:solidFill>
                  <a:srgbClr val="cdd7df"/>
                </a:solidFill>
                <a:latin typeface="Tahoma"/>
              </a:rPr>
              <a:t>	</a:t>
            </a:r>
            <a:r>
              <a:rPr b="1" lang="fr-FR" sz="3700" spc="-1" strike="noStrike">
                <a:solidFill>
                  <a:srgbClr val="cdd7df"/>
                </a:solidFill>
                <a:latin typeface="Tahoma"/>
              </a:rPr>
              <a:t>	</a:t>
            </a:r>
            <a:r>
              <a:rPr b="1" lang="fr-FR" sz="3700" spc="-1" strike="noStrike">
                <a:solidFill>
                  <a:srgbClr val="cdd7df"/>
                </a:solidFill>
                <a:latin typeface="Tahoma"/>
              </a:rPr>
              <a:t>	</a:t>
            </a:r>
            <a:r>
              <a:rPr b="1" lang="fr-FR" sz="3700" spc="-1" strike="noStrike">
                <a:solidFill>
                  <a:srgbClr val="cdd7df"/>
                </a:solidFill>
                <a:latin typeface="Tahoma"/>
              </a:rPr>
              <a:t>ONU-HABITAT</a:t>
            </a:r>
            <a:endParaRPr b="1" lang="en-US" sz="3700" spc="-1" strike="noStrike">
              <a:solidFill>
                <a:srgbClr val="cdd7df"/>
              </a:solidFill>
              <a:latin typeface="Tahoma"/>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11" name=""/>
          <p:cNvSpPr/>
          <p:nvPr/>
        </p:nvSpPr>
        <p:spPr>
          <a:xfrm>
            <a:off x="1800" y="837360"/>
            <a:ext cx="8410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r>
              <a:rPr b="0" lang="en-US" sz="1200" spc="-1" strike="noStrike">
                <a:solidFill>
                  <a:srgbClr val="ffffff"/>
                </a:solidFill>
                <a:latin typeface="Arial"/>
                <a:ea typeface="Times New Roman"/>
              </a:rPr>
              <a:t>	</a:t>
            </a:r>
            <a:endParaRPr b="0" lang="en-US" sz="1200" spc="-1" strike="noStrike">
              <a:solidFill>
                <a:srgbClr val="ffffff"/>
              </a:solidFill>
              <a:latin typeface="Times New Roman"/>
            </a:endParaRPr>
          </a:p>
        </p:txBody>
      </p:sp>
      <p:pic>
        <p:nvPicPr>
          <p:cNvPr id="112" name="Habitat logo black&amp;whiteJPEG" descr=""/>
          <p:cNvPicPr/>
          <p:nvPr/>
        </p:nvPicPr>
        <p:blipFill>
          <a:blip r:embed="rId1"/>
          <a:stretch/>
        </p:blipFill>
        <p:spPr>
          <a:xfrm>
            <a:off x="0" y="1112760"/>
            <a:ext cx="800280" cy="866880"/>
          </a:xfrm>
          <a:prstGeom prst="rect">
            <a:avLst/>
          </a:prstGeom>
          <a:ln w="0">
            <a:noFill/>
          </a:ln>
        </p:spPr>
      </p:pic>
      <p:sp>
        <p:nvSpPr>
          <p:cNvPr id="113" name=""/>
          <p:cNvSpPr/>
          <p:nvPr/>
        </p:nvSpPr>
        <p:spPr>
          <a:xfrm>
            <a:off x="0" y="197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pic>
        <p:nvPicPr>
          <p:cNvPr id="114" name="_x0012_㤭矨Ꚉ知_xffff__xffff_(" descr=""/>
          <p:cNvPicPr/>
          <p:nvPr/>
        </p:nvPicPr>
        <p:blipFill>
          <a:blip r:embed="rId2"/>
          <a:stretch/>
        </p:blipFill>
        <p:spPr>
          <a:xfrm>
            <a:off x="0" y="0"/>
            <a:ext cx="800280" cy="838080"/>
          </a:xfrm>
          <a:prstGeom prst="rect">
            <a:avLst/>
          </a:prstGeom>
          <a:ln w="0">
            <a:noFill/>
          </a:ln>
        </p:spPr>
      </p:pic>
      <p:sp>
        <p:nvSpPr>
          <p:cNvPr id="3" name="PlaceHolder 2"/>
          <p:cNvSpPr>
            <a:spLocks noGrp="1"/>
          </p:cNvSpPr>
          <p:nvPr>
            <p:ph type="sldNum" idx="6"/>
          </p:nvPr>
        </p:nvSpPr>
        <p:spPr/>
        <p:txBody>
          <a:bodyPr/>
          <a:p>
            <a:fld id="{F5D6CFA3-38FB-4F8E-A685-442DE443AEAC}" type="slidenum">
              <a:t>1</a:t>
            </a:fld>
          </a:p>
        </p:txBody>
      </p:sp>
      <p:sp>
        <p:nvSpPr>
          <p:cNvPr id="4" name="PlaceHolder 3"/>
          <p:cNvSpPr>
            <a:spLocks noGrp="1"/>
          </p:cNvSpPr>
          <p:nvPr>
            <p:ph type="dt" idx="4"/>
          </p:nvPr>
        </p:nvSpPr>
        <p:spPr/>
        <p:txBody>
          <a:bodyPr/>
          <a:p>
            <a:fld id="{BC2D41A0-BD17-4E59-9988-1E51FCC0B596}"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3120"/>
            <a:ext cx="75438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Situation du secteur de l’habitat</a:t>
            </a:r>
            <a:endParaRPr b="1" lang="en-US" sz="4000" spc="-1" strike="noStrike">
              <a:solidFill>
                <a:srgbClr val="cdd7df"/>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besoins en habitat en milieu urbain évoluent avec la croissance naturelle de la population et l’exode rural.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Processus d’urbanisation très rapide et souvent mal maîtrisé au Sénégal: la population urbaine est passée de 25%  en 1960 à plus de 45% en 2002 (soit environ 4 480 000).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 processus a entraîné :</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importants problèmes dans les secteurs de l’habitat, de la santé, de l’éducation, de l’assainissement, etc. </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énormes problèmes de circulation, de pollution et de cohabitation entre les zones d’habitat et celles d’activités</a:t>
            </a:r>
            <a:endParaRPr b="0" lang="en-US" sz="18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ans le secteur de l’habitat: forte recrudescence de l’habitat spontané (30 à 40% de l’espace occupé dans les villes)</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DC7C58DC-434E-4136-9436-E914666A09FC}" type="slidenum">
              <a:t>10</a:t>
            </a:fld>
          </a:p>
        </p:txBody>
      </p:sp>
      <p:sp>
        <p:nvSpPr>
          <p:cNvPr id="5" name="PlaceHolder 4"/>
          <p:cNvSpPr>
            <a:spLocks noGrp="1"/>
          </p:cNvSpPr>
          <p:nvPr>
            <p:ph type="dt" idx="1"/>
          </p:nvPr>
        </p:nvSpPr>
        <p:spPr/>
        <p:txBody>
          <a:bodyPr/>
          <a:p>
            <a:fld id="{D6C7FB6D-5477-4385-9E10-01293CD8B9A2}"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3120"/>
            <a:ext cx="75438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Contraintes du secteur de l’habitat</a:t>
            </a:r>
            <a:endParaRPr b="1" lang="en-US" sz="4000" spc="-1" strike="noStrike">
              <a:solidFill>
                <a:srgbClr val="cdd7df"/>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2160" rIns="92160" tIns="46080" bIns="46080"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lgré les efforts consentis ces dernières années, par l’Etat, les Collectivités locales et le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ivés, en matière d'infrastructures, d'équipements collectifs et de production de logement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es insuffisances sont constatées, notamment :</a:t>
            </a:r>
            <a:endParaRPr b="0" lang="en-US" sz="1600" spc="-1" strike="noStrike">
              <a:solidFill>
                <a:srgbClr val="ffffff"/>
              </a:solidFill>
              <a:latin typeface="Tahoma"/>
            </a:endParaRPr>
          </a:p>
          <a:p>
            <a:pPr marL="325800" indent="-32580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insuffisance de la satisfaction de la demande en logement, parcelles et équipements de qualité due essentiellement à la lenteur des procédures de rétrocession et de création de titres fonciers, les difficultés de coordination existantes dans le secteur du logement et le faible niveau de revenu des demandeurs de logements ;</a:t>
            </a:r>
            <a:endParaRPr b="0" lang="en-US" sz="1600" spc="-1" strike="noStrike">
              <a:solidFill>
                <a:srgbClr val="ffffff"/>
              </a:solidFill>
              <a:latin typeface="Tahoma"/>
            </a:endParaRPr>
          </a:p>
          <a:p>
            <a:pPr marL="325800" indent="-32580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es mesures de promotion de l’habitat social insuffisantes malgré l’importance accordée par l’Etat à ce volet ;</a:t>
            </a:r>
            <a:endParaRPr b="0" lang="en-US" sz="1600" spc="-1" strike="noStrike">
              <a:solidFill>
                <a:srgbClr val="ffffff"/>
              </a:solidFill>
              <a:latin typeface="Tahoma"/>
            </a:endParaRPr>
          </a:p>
          <a:p>
            <a:pPr marL="325800" indent="-32580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es frais d’acte et plus généralement une fiscalité élevés qui ont une incidence importante sur les coûts des logements ;</a:t>
            </a:r>
            <a:endParaRPr b="0" lang="en-US" sz="1600" spc="-1" strike="noStrike">
              <a:solidFill>
                <a:srgbClr val="ffffff"/>
              </a:solidFill>
              <a:latin typeface="Tahoma"/>
            </a:endParaRPr>
          </a:p>
          <a:p>
            <a:pPr marL="325800" indent="-32580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retard considérable dans l’aménagement des quartiers périphériques des villes et dans la réalisation de la voirie primaire et des équipements collectifs lié essentiellement à la difficulté  de mobilisation des ressources nécessaires;</a:t>
            </a:r>
            <a:endParaRPr b="0" lang="en-US" sz="1600" spc="-1" strike="noStrike">
              <a:solidFill>
                <a:srgbClr val="ffffff"/>
              </a:solidFill>
              <a:latin typeface="Tahoma"/>
            </a:endParaRPr>
          </a:p>
          <a:p>
            <a:pPr marL="325800" indent="-32580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insuffisance des équipements et des infrastructures de base (réseaux primaires), qui entraînent souvent de grosses dépenses préalables d’aménagement et d’équipements par les promoteurs ;</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36DF55F7-109D-4DE1-A8C8-062F2E798AD2}" type="slidenum">
              <a:t>11</a:t>
            </a:fld>
          </a:p>
        </p:txBody>
      </p:sp>
      <p:sp>
        <p:nvSpPr>
          <p:cNvPr id="5" name="PlaceHolder 4"/>
          <p:cNvSpPr>
            <a:spLocks noGrp="1"/>
          </p:cNvSpPr>
          <p:nvPr>
            <p:ph type="dt" idx="1"/>
          </p:nvPr>
        </p:nvSpPr>
        <p:spPr/>
        <p:txBody>
          <a:bodyPr/>
          <a:p>
            <a:fld id="{57CCA007-7081-4987-AC96-760AEC78A606}"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791640" y="620280"/>
            <a:ext cx="7543800" cy="56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suffisance en quantité et en qualité de la production locale de matériel et de matériaux de construction;</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quasi absence de l’Etat dans le financement de la viabilisation des assiettes foncières mises à la disposition des sociétés immobilières, ce qui contribue fortement à l’augmentation du coût d’acquisition du logement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es financements locaux aujourd’hui inadéquats et insuffisants, malgré la création en 1979 de la Banque de l’Habitat du Sénégal (BHS), mise en place par l’Etat pour soutenir la production de logements sociaux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manque de maîtrise du marché foncier qui est gagné aujourd’hui par la spéculation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très faible participation des sociétés concessionnaires à la viabilisation des ensembles immobiliers, malgré le fait qu’elles sont ensuite les principales bénéficiaires des réseaux financés et réalisés par les promoteurs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bsence d’une autorité de coordination entre les travaux de voiries et réseaux divers (VRD) d’une part et entre ceux-ci et les chantiers de bâtiments, d’autre par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0FBD6382-8BC5-4FFD-8781-D9E22E66DC12}" type="slidenum">
              <a:t>12</a:t>
            </a:fld>
          </a:p>
        </p:txBody>
      </p:sp>
      <p:sp>
        <p:nvSpPr>
          <p:cNvPr id="4" name="PlaceHolder 3"/>
          <p:cNvSpPr>
            <a:spLocks noGrp="1"/>
          </p:cNvSpPr>
          <p:nvPr>
            <p:ph type="dt" idx="1"/>
          </p:nvPr>
        </p:nvSpPr>
        <p:spPr/>
        <p:txBody>
          <a:bodyPr/>
          <a:p>
            <a:fld id="{F688818D-2023-450F-A2F0-43F4A9AECE9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Atouts du secteur de l’habitat</a:t>
            </a:r>
            <a:endParaRPr b="1" lang="en-US" sz="4000" spc="-1" strike="noStrike">
              <a:solidFill>
                <a:srgbClr val="cdd7df"/>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n dispositif législatif et réglementaire permettant aux différents acteurs d’exercer leur profession notamment le Code Général des Impôts, le Code de l’Urbanisme, le Code de l’Environnement, le Code des Collectivités Locales, le Code de la Construction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ux cimenteries en activité;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ne unité de préfabrication d’éléments en béton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ne usine de fabrication de fers ronds à béton ;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usines de peinture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ressources naturelles (gré, silex, basalte, marbre, sable de mer, sable de dune)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institutions techniques et des ressources  humaines qualifiées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institutions expérimentées dans le domaine du financement de l’habitat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promoteurs immobiliers publics et privés expérimentés ; </a:t>
            </a:r>
            <a:endParaRPr b="0" lang="en-US" sz="1800" spc="-1" strike="noStrike">
              <a:solidFill>
                <a:srgbClr val="ffffff"/>
              </a:solidFill>
              <a:latin typeface="Tahoma"/>
            </a:endParaRPr>
          </a:p>
          <a:p>
            <a:pPr marL="332640" indent="-3326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coopératives d’habitat et de construction en grand nombre et organisées sur le plan social.</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06EAEF98-6A59-4EC0-A444-D24FB0D8916B}" type="slidenum">
              <a:t>13</a:t>
            </a:fld>
          </a:p>
        </p:txBody>
      </p:sp>
      <p:sp>
        <p:nvSpPr>
          <p:cNvPr id="5" name="PlaceHolder 4"/>
          <p:cNvSpPr>
            <a:spLocks noGrp="1"/>
          </p:cNvSpPr>
          <p:nvPr>
            <p:ph type="dt" idx="1"/>
          </p:nvPr>
        </p:nvSpPr>
        <p:spPr/>
        <p:txBody>
          <a:bodyPr/>
          <a:p>
            <a:fld id="{F1542555-0679-454E-AC7A-45B8E5C3C40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Situation générale de l’habitat spontané</a:t>
            </a:r>
            <a:endParaRPr b="1" lang="en-US" sz="4400" spc="-1" strike="noStrike">
              <a:solidFill>
                <a:srgbClr val="cdd7df"/>
              </a:solidFill>
              <a:latin typeface="Tahoma"/>
            </a:endParaRPr>
          </a:p>
        </p:txBody>
      </p:sp>
      <p:sp>
        <p:nvSpPr>
          <p:cNvPr id="137"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fontScale="98000"/>
          </a:bodyPr>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Habitat spontané représente dans les</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incipales villes 30 à 40% de l’espace</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ccupé.</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A Dakar, 394 500 vivent actuellement</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ans des taudis.</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gglomération dakaroise présente</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lusieurs types de quartiers</a:t>
            </a:r>
            <a:endParaRPr b="0" lang="en-US" sz="1600" spc="-1" strike="noStrike">
              <a:solidFill>
                <a:srgbClr val="ffffff"/>
              </a:solidFill>
              <a:latin typeface="Tahoma"/>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rréguliers :</a:t>
            </a:r>
            <a:endParaRPr b="0" lang="en-US" sz="1600" spc="-1" strike="noStrike">
              <a:solidFill>
                <a:srgbClr val="ffffff"/>
              </a:solidFill>
              <a:latin typeface="Tahoma"/>
            </a:endParaRPr>
          </a:p>
          <a:p>
            <a:pPr marL="335880" indent="-335880">
              <a:spcBef>
                <a:spcPts val="34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eux proches du centre ville</a:t>
            </a:r>
            <a:endParaRPr b="0" lang="en-US" sz="1400" spc="-1" strike="noStrike">
              <a:solidFill>
                <a:srgbClr val="ffffff"/>
              </a:solidFill>
              <a:latin typeface="Tahoma"/>
            </a:endParaRPr>
          </a:p>
          <a:p>
            <a:pPr marL="335880" indent="-335880">
              <a:spcBef>
                <a:spcPts val="34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Ceux situés à la périphérie de la ville</a:t>
            </a:r>
            <a:endParaRPr b="0" lang="en-US" sz="1400" spc="-1" strike="noStrike">
              <a:solidFill>
                <a:srgbClr val="ffffff"/>
              </a:solidFill>
              <a:latin typeface="Tahoma"/>
            </a:endParaRPr>
          </a:p>
          <a:p>
            <a:pPr marL="335880" indent="-335880">
              <a:spcBef>
                <a:spcPts val="34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Les villages traditionnels de pêcheurs de l’agglomération de Dakar</a:t>
            </a:r>
            <a:endParaRPr b="0" lang="en-US" sz="1400" spc="-1" strike="noStrike">
              <a:solidFill>
                <a:srgbClr val="ffffff"/>
              </a:solidFill>
              <a:latin typeface="Tahoma"/>
            </a:endParaRPr>
          </a:p>
        </p:txBody>
      </p:sp>
      <p:graphicFrame>
        <p:nvGraphicFramePr>
          <p:cNvPr id="138" name=""/>
          <p:cNvGraphicFramePr/>
          <p:nvPr/>
        </p:nvGraphicFramePr>
        <p:xfrm>
          <a:off x="4915080" y="1773360"/>
          <a:ext cx="3695400" cy="4322520"/>
        </p:xfrm>
        <a:graphic>
          <a:graphicData uri="http://schemas.openxmlformats.org/drawingml/2006/table">
            <a:tbl>
              <a:tblPr/>
              <a:tblGrid>
                <a:gridCol w="1847520"/>
                <a:gridCol w="1847880"/>
              </a:tblGrid>
              <a:tr h="4322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ahoma"/>
                        </a:rPr>
                        <a:t>Villes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akar                  Thiès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Saint-Louis         </a:t>
                      </a:r>
                      <a:r>
                        <a:rPr b="0" lang="en-GB" sz="1600" spc="-1" strike="noStrike">
                          <a:solidFill>
                            <a:srgbClr val="ffffff"/>
                          </a:solidFill>
                          <a:latin typeface="Tahoma"/>
                        </a:rPr>
                        <a:t>Kaolack              Louga               Diourbel              Ziguinchor          Tambacounda       Kolda                    </a:t>
                      </a:r>
                      <a:r>
                        <a:rPr b="0" lang="fr-FR" sz="1600" spc="-1" strike="noStrike">
                          <a:solidFill>
                            <a:srgbClr val="ffffff"/>
                          </a:solidFill>
                          <a:latin typeface="Tahoma"/>
                        </a:rPr>
                        <a:t>Fatick                  Matam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ahoma"/>
                        </a:rPr>
                        <a:t>Pourcentage par rapport à la superfici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3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4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3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2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1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2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2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15%</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10%</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1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DA508192-E6A6-457F-86B9-7351CB170B3A}" type="slidenum">
              <a:t>14</a:t>
            </a:fld>
          </a:p>
        </p:txBody>
      </p:sp>
      <p:sp>
        <p:nvSpPr>
          <p:cNvPr id="5" name="PlaceHolder 4"/>
          <p:cNvSpPr>
            <a:spLocks noGrp="1"/>
          </p:cNvSpPr>
          <p:nvPr>
            <p:ph type="dt" idx="1"/>
          </p:nvPr>
        </p:nvSpPr>
        <p:spPr/>
        <p:txBody>
          <a:bodyPr/>
          <a:p>
            <a:fld id="{0C5A75D3-4AE3-4EE5-A9B7-77E943280469}"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Accès au logement</a:t>
            </a:r>
            <a:endParaRPr b="1" lang="en-US" sz="4000" spc="-1" strike="noStrike">
              <a:solidFill>
                <a:srgbClr val="cdd7df"/>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un des problème majeurs du secteur de l’habitat= l’insuffisance de la satisfaction de la demande en logements et parcelles et l’accès difficile.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Si en 1988, 69,6% des chefs de ménages sénégalais étaient propriétaires de logements, depuis 1995, cette proportion s’est considérablement réduite et est passé à 18,7%. Le statut d’occupant le plus courant est celui de locataires ou de co-locataires (51,6% en 1995).</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39E820A-4C41-4F8F-B6DC-FF28F85A3C10}" type="slidenum">
              <a:t>15</a:t>
            </a:fld>
          </a:p>
        </p:txBody>
      </p:sp>
      <p:sp>
        <p:nvSpPr>
          <p:cNvPr id="5" name="PlaceHolder 4"/>
          <p:cNvSpPr>
            <a:spLocks noGrp="1"/>
          </p:cNvSpPr>
          <p:nvPr>
            <p:ph type="dt" idx="1"/>
          </p:nvPr>
        </p:nvSpPr>
        <p:spPr/>
        <p:txBody>
          <a:bodyPr/>
          <a:p>
            <a:fld id="{F0699AFB-7445-4DDD-B9A9-37F43B013926}"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dd7df"/>
                </a:solidFill>
                <a:latin typeface="Tahoma"/>
              </a:rPr>
              <a:t>Offre insuffisante</a:t>
            </a:r>
            <a:endParaRPr b="1" lang="en-US" sz="3600" spc="-1" strike="noStrike">
              <a:solidFill>
                <a:srgbClr val="cdd7df"/>
              </a:solidFill>
              <a:latin typeface="Tahoma"/>
            </a:endParaRPr>
          </a:p>
        </p:txBody>
      </p:sp>
      <p:sp>
        <p:nvSpPr>
          <p:cNvPr id="142" name="PlaceHolder 2"/>
          <p:cNvSpPr>
            <a:spLocks noGrp="1"/>
          </p:cNvSpPr>
          <p:nvPr>
            <p:ph/>
          </p:nvPr>
        </p:nvSpPr>
        <p:spPr>
          <a:xfrm>
            <a:off x="1066320" y="1233000"/>
            <a:ext cx="7543800" cy="5256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révisions des besoins en logements et parcelles viabilisées (1997)=120 000</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ffre des sociétés publiques et parapubliqu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2858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SICAP: de sa création à juillet 2000: </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12 918 logements au Sénégal</a:t>
            </a:r>
            <a:endParaRPr b="0" lang="en-US" sz="1400" spc="-1" strike="noStrike">
              <a:solidFill>
                <a:srgbClr val="ffffff"/>
              </a:solidFill>
              <a:latin typeface="Tahom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SNHLM :13 432 logements au Sénégal</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SCAT-URBAM: entre 1995 et 2000 :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2 300 parcelles (Grand Yoff et site du Camp Lat Dior)</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4 250 unités d’habitation à Hann Marist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	</a:t>
            </a:r>
            <a:r>
              <a:rPr b="0" lang="fr-FR" sz="1400" spc="-1" strike="noStrike">
                <a:solidFill>
                  <a:srgbClr val="ffffff"/>
                </a:solidFill>
                <a:latin typeface="Tahoma"/>
              </a:rPr>
              <a:t>               </a:t>
            </a:r>
            <a:endParaRPr b="0" lang="en-US" sz="1400" spc="-1" strike="noStrike">
              <a:solidFill>
                <a:srgbClr val="ffffff"/>
              </a:solidFill>
              <a:latin typeface="Tahoma"/>
            </a:endParaRPr>
          </a:p>
          <a:p>
            <a:pPr lvl="1" marL="743040" indent="-285840">
              <a:lnSpc>
                <a:spcPct val="80000"/>
              </a:lnSpc>
              <a:spcBef>
                <a:spcPts val="3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ZAC: Projet test de Mbao: 12 000 parcelles viabilisé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Opérations lancées en 2002 dans la banlieue dakaroise  (Diamniadio) et dans les villes de Thiès, Louga, Kaolack, Saint Louis et Richard Toll devraient produire 49 000 unités logements</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    </a:t>
            </a:r>
            <a:r>
              <a:rPr b="0" lang="fr-FR" sz="1400" spc="-1" strike="noStrike">
                <a:solidFill>
                  <a:srgbClr val="ffffff"/>
                </a:solidFill>
                <a:latin typeface="Tahoma"/>
              </a:rPr>
              <a:t>Horizon 2015 sur l’ensemble du territoire national: 92 500 unités logements</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25689E3C-4262-4E6D-929A-C1BA23E80F2F}" type="slidenum">
              <a:t>16</a:t>
            </a:fld>
          </a:p>
        </p:txBody>
      </p:sp>
      <p:sp>
        <p:nvSpPr>
          <p:cNvPr id="5" name="PlaceHolder 4"/>
          <p:cNvSpPr>
            <a:spLocks noGrp="1"/>
          </p:cNvSpPr>
          <p:nvPr>
            <p:ph type="dt" idx="1"/>
          </p:nvPr>
        </p:nvSpPr>
        <p:spPr/>
        <p:txBody>
          <a:bodyPr/>
          <a:p>
            <a:fld id="{2733ADD6-6156-4F7A-8199-F77CF8540F21}"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718920" y="87300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ffre des sociétés immobilières privées en 1999: 660 logement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opératives d’habitat: entre 1988 et 2000: près de 4 863 logements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to-construction: permis de construire délivrés sont passés de 1 173 en 1993 à 2 051 en 1994 et à 2 793 en 1995 dans la région de Daka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1998: Thiès (260)- Louga (111)- Kaolack (76) et Tambacounda (99)</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BEF4DE5D-F22B-49CA-B50D-FB05F67D57B8}" type="slidenum">
              <a:t>17</a:t>
            </a:fld>
          </a:p>
        </p:txBody>
      </p:sp>
      <p:sp>
        <p:nvSpPr>
          <p:cNvPr id="4" name="PlaceHolder 3"/>
          <p:cNvSpPr>
            <a:spLocks noGrp="1"/>
          </p:cNvSpPr>
          <p:nvPr>
            <p:ph type="dt" idx="1"/>
          </p:nvPr>
        </p:nvSpPr>
        <p:spPr/>
        <p:txBody>
          <a:bodyPr/>
          <a:p>
            <a:fld id="{EAEDBC53-0BCC-4B86-92D9-D4E5A87FE9F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dd7df"/>
                </a:solidFill>
                <a:latin typeface="Tahoma"/>
              </a:rPr>
              <a:t>Accès inégal</a:t>
            </a:r>
            <a:endParaRPr b="1" lang="en-US" sz="3600" spc="-1" strike="noStrike">
              <a:solidFill>
                <a:srgbClr val="cdd7df"/>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isparités aux plans géographique et spatial, mais aussi au plan social et économiq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Sociétés publiques et parapubliques:</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s 27 650 logements construits par les promoteurs publics (SICAP et SNHLM) entre 1970 et 2002/2003, 24 656 sont localisés dans la région de Dakar, soit 89%</a:t>
            </a:r>
            <a:endParaRPr b="0" lang="en-US" sz="18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omoteurs privés, particuliers et autres:</a:t>
            </a:r>
            <a:endParaRPr b="0" lang="en-US" sz="20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0" lang="fr-FR" sz="2000" spc="-1" strike="noStrike">
                <a:solidFill>
                  <a:srgbClr val="ffffff"/>
                </a:solidFill>
                <a:latin typeface="Tahoma"/>
              </a:rPr>
              <a:t>C</a:t>
            </a:r>
            <a:r>
              <a:rPr b="0" lang="fr-FR" sz="1800" spc="-1" strike="noStrike">
                <a:solidFill>
                  <a:srgbClr val="ffffff"/>
                </a:solidFill>
                <a:latin typeface="Tahoma"/>
              </a:rPr>
              <a:t>umul du nombre de logements construits de 1982 à 2000: 27 425</a:t>
            </a: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0" lang="fr-FR" sz="2000" spc="-1" strike="noStrike">
                <a:solidFill>
                  <a:srgbClr val="ffffff"/>
                </a:solidFill>
                <a:latin typeface="Tahoma"/>
              </a:rPr>
              <a:t>52,5% de ces réalisation est le fruit de coopératives d’habitat et particuliers ayant bénéficié d’un financement autre que celui de la BHS</a:t>
            </a:r>
            <a:endParaRPr b="0" lang="en-US" sz="20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4DC4CFDF-4D53-493A-94AC-A414F2D1AABB}" type="slidenum">
              <a:t>18</a:t>
            </a:fld>
          </a:p>
        </p:txBody>
      </p:sp>
      <p:sp>
        <p:nvSpPr>
          <p:cNvPr id="5" name="PlaceHolder 4"/>
          <p:cNvSpPr>
            <a:spLocks noGrp="1"/>
          </p:cNvSpPr>
          <p:nvPr>
            <p:ph type="dt" idx="1"/>
          </p:nvPr>
        </p:nvSpPr>
        <p:spPr/>
        <p:txBody>
          <a:bodyPr/>
          <a:p>
            <a:fld id="{9BE4ADBF-0BBD-425D-A6D8-D795BD974A10}"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007640" y="657360"/>
            <a:ext cx="7543800" cy="540072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u plan social et économiqu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u plan social et économique, les populations à bas revenus ne peuvent accéder au logement à cause de la cherté des habitations et parcelles. Elles ne peuvent pas recourir à l’emprunt auprès de structures financières car ne disposant pas de garantie. Aussi sont-elles obligées de se rabattre sur la location, mais leurs maigres revenus ne leur permettent pas de faire face aux loyers trop élevés en milieu urbain, et particulièrement à Dakar.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 </a:t>
            </a:r>
            <a:r>
              <a:rPr b="0" lang="fr-FR" sz="2000" spc="-1" strike="noStrike">
                <a:solidFill>
                  <a:srgbClr val="ffffff"/>
                </a:solidFill>
                <a:latin typeface="Tahoma"/>
              </a:rPr>
              <a:t>En effet, le manque de logements  adéquats  et plus particulièrement dans les centres urbains, se traduit par une augmentation souvent abusive du prix des loyers des habitation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a conséquence d’une telle situation réside dans les difficultés à trouver un logement à un coûts supportable par les faibles revenus.</a:t>
            </a: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320D8A0A-D389-440F-BAA8-04593B0A1038}" type="slidenum">
              <a:t>19</a:t>
            </a:fld>
          </a:p>
        </p:txBody>
      </p:sp>
      <p:sp>
        <p:nvSpPr>
          <p:cNvPr id="4" name="PlaceHolder 3"/>
          <p:cNvSpPr>
            <a:spLocks noGrp="1"/>
          </p:cNvSpPr>
          <p:nvPr>
            <p:ph type="dt" idx="1"/>
          </p:nvPr>
        </p:nvSpPr>
        <p:spPr/>
        <p:txBody>
          <a:bodyPr/>
          <a:p>
            <a:fld id="{B3D3189A-22E1-4F12-BB71-7C98DBD3D9A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31280" y="1341360"/>
            <a:ext cx="8317080" cy="5243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Sommaire </a:t>
            </a:r>
            <a:br>
              <a:rPr sz="4400"/>
            </a:br>
            <a:br>
              <a:rPr sz="2400"/>
            </a:br>
            <a:r>
              <a:rPr b="1" lang="fr-FR" sz="2800" spc="-1" strike="noStrike">
                <a:solidFill>
                  <a:srgbClr val="cdd7df"/>
                </a:solidFill>
                <a:latin typeface="Tahoma"/>
              </a:rPr>
              <a:t>1. Contexte </a:t>
            </a:r>
            <a:br>
              <a:rPr sz="2800"/>
            </a:br>
            <a:r>
              <a:rPr b="1" lang="fr-FR" sz="2800" spc="-1" strike="noStrike">
                <a:solidFill>
                  <a:srgbClr val="cdd7df"/>
                </a:solidFill>
                <a:latin typeface="Tahoma"/>
              </a:rPr>
              <a:t>2. Objectifs</a:t>
            </a:r>
            <a:br>
              <a:rPr sz="2800"/>
            </a:br>
            <a:r>
              <a:rPr b="1" lang="fr-FR" sz="2800" spc="-1" strike="noStrike">
                <a:solidFill>
                  <a:srgbClr val="cdd7df"/>
                </a:solidFill>
                <a:latin typeface="Tahoma"/>
              </a:rPr>
              <a:t>3. Méthodologie</a:t>
            </a:r>
            <a:br>
              <a:rPr sz="2800"/>
            </a:br>
            <a:r>
              <a:rPr b="1" lang="fr-FR" sz="2800" spc="-1" strike="noStrike">
                <a:solidFill>
                  <a:srgbClr val="cdd7df"/>
                </a:solidFill>
                <a:latin typeface="Tahoma"/>
              </a:rPr>
              <a:t>4. Suivi du processus</a:t>
            </a:r>
            <a:br>
              <a:rPr sz="2800"/>
            </a:br>
            <a:r>
              <a:rPr b="1" lang="fr-FR" sz="2800" spc="-1" strike="noStrike">
                <a:solidFill>
                  <a:srgbClr val="cdd7df"/>
                </a:solidFill>
                <a:latin typeface="Tahoma"/>
              </a:rPr>
              <a:t>5. Diagnostic du secteur  </a:t>
            </a:r>
            <a:br>
              <a:rPr sz="2800"/>
            </a:br>
            <a:r>
              <a:rPr b="1" lang="fr-FR" sz="2800" spc="-1" strike="noStrike">
                <a:solidFill>
                  <a:srgbClr val="cdd7df"/>
                </a:solidFill>
                <a:latin typeface="Tahoma"/>
              </a:rPr>
              <a:t>    urbain au Sénégal</a:t>
            </a:r>
            <a:br>
              <a:rPr sz="2800"/>
            </a:br>
            <a:r>
              <a:rPr b="1" lang="fr-FR" sz="2800" spc="-1" strike="noStrike">
                <a:solidFill>
                  <a:srgbClr val="cdd7df"/>
                </a:solidFill>
                <a:latin typeface="Tahoma"/>
              </a:rPr>
              <a:t>    5.1 Habitat et conditions de vie </a:t>
            </a:r>
            <a:br>
              <a:rPr sz="2800"/>
            </a:br>
            <a:r>
              <a:rPr b="1" lang="fr-FR" sz="2800" spc="-1" strike="noStrike">
                <a:solidFill>
                  <a:srgbClr val="cdd7df"/>
                </a:solidFill>
                <a:latin typeface="Tahoma"/>
              </a:rPr>
              <a:t>	</a:t>
            </a:r>
            <a:r>
              <a:rPr b="1" lang="fr-FR" sz="2800" spc="-1" strike="noStrike">
                <a:solidFill>
                  <a:srgbClr val="cdd7df"/>
                </a:solidFill>
                <a:latin typeface="Tahoma"/>
              </a:rPr>
              <a:t> dans les bidonvilles  </a:t>
            </a:r>
            <a:br>
              <a:rPr sz="2800"/>
            </a:br>
            <a:r>
              <a:rPr b="1" lang="fr-FR" sz="2800" spc="-1" strike="noStrike">
                <a:solidFill>
                  <a:srgbClr val="cdd7df"/>
                </a:solidFill>
                <a:latin typeface="Tahoma"/>
              </a:rPr>
              <a:t>    5.2 Gouvernance urbaine</a:t>
            </a:r>
            <a:br>
              <a:rPr sz="2800"/>
            </a:br>
            <a:r>
              <a:rPr b="1" lang="fr-FR" sz="2800" spc="-1" strike="noStrike">
                <a:solidFill>
                  <a:srgbClr val="cdd7df"/>
                </a:solidFill>
                <a:latin typeface="Tahoma"/>
              </a:rPr>
              <a:t>    5.3 Genre</a:t>
            </a:r>
            <a:br>
              <a:rPr sz="2800"/>
            </a:br>
            <a:r>
              <a:rPr b="1" lang="fr-FR" sz="2800" spc="-1" strike="noStrike">
                <a:solidFill>
                  <a:srgbClr val="cdd7df"/>
                </a:solidFill>
                <a:latin typeface="Tahoma"/>
              </a:rPr>
              <a:t>    5.4 Environnement urbain</a:t>
            </a:r>
            <a:r>
              <a:rPr b="1" lang="fr-FR" sz="3600" spc="-1" strike="noStrike">
                <a:solidFill>
                  <a:srgbClr val="cdd7df"/>
                </a:solidFill>
                <a:latin typeface="Tahoma"/>
              </a:rPr>
              <a:t> </a:t>
            </a:r>
            <a:endParaRPr b="1" lang="en-US" sz="3600" spc="-1" strike="noStrike">
              <a:solidFill>
                <a:srgbClr val="cdd7df"/>
              </a:solidFill>
              <a:latin typeface="Tahoma"/>
            </a:endParaRPr>
          </a:p>
        </p:txBody>
      </p:sp>
      <p:sp>
        <p:nvSpPr>
          <p:cNvPr id="3" name="PlaceHolder 2"/>
          <p:cNvSpPr>
            <a:spLocks noGrp="1"/>
          </p:cNvSpPr>
          <p:nvPr>
            <p:ph type="sldNum" idx="6"/>
          </p:nvPr>
        </p:nvSpPr>
        <p:spPr/>
        <p:txBody>
          <a:bodyPr/>
          <a:p>
            <a:fld id="{9D4026C8-8B25-4587-8EEA-C53F112BE028}" type="slidenum">
              <a:t>2</a:t>
            </a:fld>
          </a:p>
        </p:txBody>
      </p:sp>
      <p:sp>
        <p:nvSpPr>
          <p:cNvPr id="4" name="PlaceHolder 3"/>
          <p:cNvSpPr>
            <a:spLocks noGrp="1"/>
          </p:cNvSpPr>
          <p:nvPr>
            <p:ph type="dt" idx="4"/>
          </p:nvPr>
        </p:nvSpPr>
        <p:spPr/>
        <p:txBody>
          <a:bodyPr/>
          <a:p>
            <a:fld id="{0B472BB9-8FC1-4A34-9B4C-4F05F91904F9}"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Sécurité foncière</a:t>
            </a:r>
            <a:endParaRPr b="1" lang="en-US" sz="4000" spc="-1" strike="noStrike">
              <a:solidFill>
                <a:srgbClr val="cdd7df"/>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ormes d’occupation foncière relevées au Sénégal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32640" indent="-33264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roit de propriété, qui est garanti à tous les citoyens par la Constitution du Sénégal, en ses articles 8 et 15.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homme et la femme ont, de manière équitable, le droit d’accéder à la possession et à la propriété de la terre, dans des conditions qui sont déterminées par la loi.</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droit de jouissance  à temps sur un immeuble d’autrui (autorisation d’occuper, baux ordinaires ou emphytéotiques, droits de superficie) concédé selon  les règles fixées par  le Code des Obligations Civiles et Commerciales (COCC), le décret foncier de 1932, le Code du domaine de l’Etat et le décret 81-557 du 21 Mai 1981 pris pour son application.</a:t>
            </a:r>
            <a:endParaRPr b="0" lang="en-US" sz="2000" spc="-1" strike="noStrike">
              <a:solidFill>
                <a:srgbClr val="ffffff"/>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F6184116-A8DE-4DC5-BF10-7D258407AF7B}" type="slidenum">
              <a:t>20</a:t>
            </a:fld>
          </a:p>
        </p:txBody>
      </p:sp>
      <p:sp>
        <p:nvSpPr>
          <p:cNvPr id="5" name="PlaceHolder 4"/>
          <p:cNvSpPr>
            <a:spLocks noGrp="1"/>
          </p:cNvSpPr>
          <p:nvPr>
            <p:ph type="dt" idx="1"/>
          </p:nvPr>
        </p:nvSpPr>
        <p:spPr/>
        <p:txBody>
          <a:bodyPr/>
          <a:p>
            <a:fld id="{B360E0C6-9F5F-492E-A8E7-D1C50B63E15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dd7df"/>
                </a:solidFill>
                <a:latin typeface="Tahoma"/>
              </a:rPr>
              <a:t>Limites de la sécurité foncière</a:t>
            </a:r>
            <a:endParaRPr b="1" lang="en-US" sz="4000" spc="-1" strike="noStrike">
              <a:solidFill>
                <a:srgbClr val="cdd7df"/>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ontraintes d’ordre juridique</a:t>
            </a:r>
            <a:endParaRPr b="0" lang="en-US" sz="28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de du domaine de l’Etat </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i 76-67 du 2 juillet 1976 relative à l’expropriation pour cause d’utilité publique et aux autres opérations foncières d’utilité publique</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ontraintes découlant du code de l’urbanisme (Loi N° 88-05 du 20-06-1988) qui détermine les règles d’organisation de l’espace et d’utilisation du sol et les coûts des parcelles viabilisées et des logements sont souvent incompatibles avec les faibles revenus des ménages </a:t>
            </a:r>
            <a:endParaRPr b="0" lang="en-US" sz="2400" spc="-1" strike="noStrike">
              <a:solidFill>
                <a:srgbClr val="ffffff"/>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3FD0646-2E39-4815-AD01-5F1EA0060661}" type="slidenum">
              <a:t>21</a:t>
            </a:fld>
          </a:p>
        </p:txBody>
      </p:sp>
      <p:sp>
        <p:nvSpPr>
          <p:cNvPr id="5" name="PlaceHolder 4"/>
          <p:cNvSpPr>
            <a:spLocks noGrp="1"/>
          </p:cNvSpPr>
          <p:nvPr>
            <p:ph type="dt" idx="1"/>
          </p:nvPr>
        </p:nvSpPr>
        <p:spPr/>
        <p:txBody>
          <a:bodyPr/>
          <a:p>
            <a:fld id="{FB4796C9-7BD1-42CE-8545-BF6C56721EC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15640" y="728640"/>
            <a:ext cx="7543800" cy="41148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ontraintes d’ordre institutionnel</a:t>
            </a:r>
            <a:endParaRPr b="0" lang="en-US" sz="1800" spc="-1" strike="noStrike">
              <a:solidFill>
                <a:srgbClr val="ffffff"/>
              </a:solidFill>
              <a:latin typeface="Tahoma"/>
            </a:endParaRPr>
          </a:p>
          <a:p>
            <a:pPr lvl="1" marL="713160" indent="-27432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ourdeurs administratives découlant de la multiplicité des acteurs qui interviennent dans la gestion foncière et l’occupation de l’espace. </a:t>
            </a:r>
            <a:endParaRPr b="0" lang="en-US" sz="1800" spc="-1" strike="noStrike">
              <a:solidFill>
                <a:srgbClr val="ffffff"/>
              </a:solidFill>
              <a:latin typeface="Tahoma"/>
            </a:endParaRPr>
          </a:p>
          <a:p>
            <a:pPr lvl="1" marL="713160" indent="-27432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nteurs notées dans la délivrance des titres d’occupation foncière, titres fonciers, baux, droit de superficie etc. par les services responsables (services des domaines, de la conservation, de la propriété foncière et de droits fonciers, du cadastre et de l’urbanisme) </a:t>
            </a:r>
            <a:endParaRPr b="0" lang="en-US" sz="1800" spc="-1" strike="noStrike">
              <a:solidFill>
                <a:srgbClr val="ffffff"/>
              </a:solidFill>
              <a:latin typeface="Tahoma"/>
            </a:endParaRPr>
          </a:p>
          <a:p>
            <a:pPr lvl="1" marL="713160" indent="-27432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nefficacité des services administratifs qui n’ont souvent pas les moyens humains et financiers nécessaires à l’exécution de leurs missions ;</a:t>
            </a:r>
            <a:endParaRPr b="0" lang="en-US" sz="1800" spc="-1" strike="noStrike">
              <a:solidFill>
                <a:srgbClr val="ffffff"/>
              </a:solidFill>
              <a:latin typeface="Tahoma"/>
            </a:endParaRPr>
          </a:p>
          <a:p>
            <a:pPr lvl="1" marL="713160" indent="-27432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services de l’urbanisme chargés de la planification spatiale n’arrivent pas souvent à mettre en place des mécanismes d’anticipation de l’occupation foncière en élaborant des instruments permettant d’aménager les zones urbaines et à fournir des services de base aux populations. Toutefois des efforts à ce niveau à travers la ZAC </a:t>
            </a: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6A102CFC-DA9F-4425-971D-834FFE532D5C}" type="slidenum">
              <a:t>22</a:t>
            </a:fld>
          </a:p>
        </p:txBody>
      </p:sp>
      <p:sp>
        <p:nvSpPr>
          <p:cNvPr id="4" name="PlaceHolder 3"/>
          <p:cNvSpPr>
            <a:spLocks noGrp="1"/>
          </p:cNvSpPr>
          <p:nvPr>
            <p:ph type="dt" idx="1"/>
          </p:nvPr>
        </p:nvSpPr>
        <p:spPr/>
        <p:txBody>
          <a:bodyPr/>
          <a:p>
            <a:fld id="{418A56B3-DA5E-4391-ACFE-0C79FC04B6F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35280" y="404640"/>
            <a:ext cx="6589440" cy="12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Gouvernance urbaine</a:t>
            </a:r>
            <a:endParaRPr b="1" lang="en-US" sz="4400" spc="-1" strike="noStrike">
              <a:solidFill>
                <a:srgbClr val="cdd7df"/>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échecs répétés des régimes post coloniaux et les différentes réformes des économies des pays en voie de développement vont amener une conception plus large de la bonne gouvernance qui ne se limite plus aux aspects économiques, mais également aux aspects politique, juridique, institutionnel et social.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ns ce contexte, l’importance de plus en plus grande du développement local s’explique dans une large mesure par l’échec du développement global, dans sa tentative de bâtir des sociétés nouvelles, sans tenir compte de la place centrale du local dans la configuration des Etat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FE88361-E2D9-4814-A6B5-4122AA251707}" type="slidenum">
              <a:t>23</a:t>
            </a:fld>
          </a:p>
        </p:txBody>
      </p:sp>
      <p:sp>
        <p:nvSpPr>
          <p:cNvPr id="5" name="PlaceHolder 4"/>
          <p:cNvSpPr>
            <a:spLocks noGrp="1"/>
          </p:cNvSpPr>
          <p:nvPr>
            <p:ph type="dt" idx="1"/>
          </p:nvPr>
        </p:nvSpPr>
        <p:spPr/>
        <p:txBody>
          <a:bodyPr/>
          <a:p>
            <a:fld id="{B8D97DDC-2E46-401A-B836-7483098F6FFB}"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826560" y="872640"/>
            <a:ext cx="7543800" cy="525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concept de développement local est apparu depuis un certain nombre d’années, suite à l’incapacité du développement global à trouver des réponses articulées et valables aux préoccupations sociales, économiques et culturelles des entités de base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 l’échelle urbaine, la bonne gouvernance est fondée sur un aménagement urbain efficient, une décentralisation et une déconcentration profondes et effectives, un développement communautaire et une participation effective de la société civile à la gestion urbaine en général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fonctionnement  des institutions constitue aujourd’hui un enjeu majeur pour la bonne gouvernance urbaine au Sénégal. Seulement la multiplicité des intervenants aux niveaux central, déconcentré, décentralisé et communautaire introduit des dysfonctionnements dans la pratique et entraîne de sérieux problèmes de bonne gouvernance de manière générale, et de bonne gestion des municipalités en particulier. </a:t>
            </a: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6FE8DC98-1E9B-440C-8E17-F53577F34BD4}" type="slidenum">
              <a:t>24</a:t>
            </a:fld>
          </a:p>
        </p:txBody>
      </p:sp>
      <p:sp>
        <p:nvSpPr>
          <p:cNvPr id="4" name="PlaceHolder 3"/>
          <p:cNvSpPr>
            <a:spLocks noGrp="1"/>
          </p:cNvSpPr>
          <p:nvPr>
            <p:ph type="dt" idx="1"/>
          </p:nvPr>
        </p:nvSpPr>
        <p:spPr/>
        <p:txBody>
          <a:bodyPr/>
          <a:p>
            <a:fld id="{B193600F-FE7E-4A9B-8527-6959B472B88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dd7df"/>
                </a:solidFill>
                <a:latin typeface="Tahoma"/>
              </a:rPr>
              <a:t>Limites de la gestion municipale</a:t>
            </a:r>
            <a:r>
              <a:rPr b="1" lang="fr-FR" sz="4400" spc="-1" strike="noStrike">
                <a:solidFill>
                  <a:srgbClr val="cdd7df"/>
                </a:solidFill>
                <a:latin typeface="Tahoma"/>
              </a:rPr>
              <a:t> </a:t>
            </a:r>
            <a:endParaRPr b="1" lang="en-US" sz="4400" spc="-1" strike="noStrike">
              <a:solidFill>
                <a:srgbClr val="cdd7df"/>
              </a:solidFill>
              <a:latin typeface="Tahoma"/>
            </a:endParaRPr>
          </a:p>
        </p:txBody>
      </p:sp>
      <p:sp>
        <p:nvSpPr>
          <p:cNvPr id="156" name="PlaceHolder 2"/>
          <p:cNvSpPr>
            <a:spLocks noGrp="1"/>
          </p:cNvSpPr>
          <p:nvPr>
            <p:ph/>
          </p:nvPr>
        </p:nvSpPr>
        <p:spPr>
          <a:xfrm>
            <a:off x="1079280" y="177336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nque de clarté dans la définition des attributions et des compétences ;</a:t>
            </a:r>
            <a:endParaRPr b="0" lang="en-US" sz="24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bsence de transfert réel des services et moyens financiers ;</a:t>
            </a:r>
            <a:endParaRPr b="0" lang="en-US" sz="24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éficit de formation, d’information et de capacités de gestion des élus,</a:t>
            </a:r>
            <a:endParaRPr b="0" lang="en-US" sz="24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nque de moyens des services déconcentrés de l’Etat ; </a:t>
            </a:r>
            <a:endParaRPr b="0" lang="en-US" sz="24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bsence d’une charte de déconcentration et d’une bonne prise en compte du caractère interministériel des compétences transférées ;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442F61D-4599-4B5B-BD78-39BE98C77709}" type="slidenum">
              <a:t>25</a:t>
            </a:fld>
          </a:p>
        </p:txBody>
      </p:sp>
      <p:sp>
        <p:nvSpPr>
          <p:cNvPr id="5" name="PlaceHolder 4"/>
          <p:cNvSpPr>
            <a:spLocks noGrp="1"/>
          </p:cNvSpPr>
          <p:nvPr>
            <p:ph type="dt" idx="1"/>
          </p:nvPr>
        </p:nvSpPr>
        <p:spPr/>
        <p:txBody>
          <a:bodyPr/>
          <a:p>
            <a:fld id="{624C7D5E-5305-45E4-8DD7-F6CD838685E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718920" y="62064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blèmes d’efficacité et de transparence liés essentiellement aux raisons suivantes :</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un recrutement clientéliste de la part des autorités locales, d’où des effectifs  souvent pléthoriques surtout dans les communes de la région de Dakar. Par contre dans des communes comme Dioffior, Goudomp, Kahone, Kanel, etc., on constate un manque criard de personnel ;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bsence physique des maires des villes autres que Dakar. En effet, l’écrasante majorité réside dans la capitale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bsence d’un statut de l’élu ;</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nalphabétisme d’un bon nombre de maires ; à titre d’exemple, les élus locaux sont, dans leur ensemble, analphabètes en français à 97% ;</a:t>
            </a: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23E70D27-FA47-4715-AA1F-A647395C56D7}" type="slidenum">
              <a:t>26</a:t>
            </a:fld>
          </a:p>
        </p:txBody>
      </p:sp>
      <p:sp>
        <p:nvSpPr>
          <p:cNvPr id="4" name="PlaceHolder 3"/>
          <p:cNvSpPr>
            <a:spLocks noGrp="1"/>
          </p:cNvSpPr>
          <p:nvPr>
            <p:ph type="dt" idx="1"/>
          </p:nvPr>
        </p:nvSpPr>
        <p:spPr/>
        <p:txBody>
          <a:bodyPr/>
          <a:p>
            <a:fld id="{E2CE9B9D-4E38-4130-8615-B0529B72EABA}"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91640" y="584280"/>
            <a:ext cx="7543800" cy="5581440"/>
          </a:xfrm>
          <a:prstGeom prst="rect">
            <a:avLst/>
          </a:prstGeom>
          <a:noFill/>
          <a:ln w="0">
            <a:noFill/>
          </a:ln>
        </p:spPr>
        <p:txBody>
          <a:bodyPr lIns="90000" rIns="90000" tIns="46800" bIns="46800" anchor="t">
            <a:normAutofit fontScale="98000"/>
          </a:bodyPr>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problèmes de participation des citoyens:</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bsence ou le manque de coordination entre les différents acteurs qui interviennent en milieu urbain ;</a:t>
            </a:r>
            <a:endParaRPr b="0" lang="en-US" sz="2400" spc="-1" strike="noStrike">
              <a:solidFill>
                <a:srgbClr val="ffffff"/>
              </a:solidFill>
              <a:latin typeface="Tahoma"/>
            </a:endParaRPr>
          </a:p>
          <a:p>
            <a:pPr lvl="1" marL="727920" indent="-2800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insuffisance de ressources humaines de qualité : en effet, suite aux compétences transférées, les communes ont vu leur besoins en ressources humaines de qualité augmenter. Or les communes manquent cruellement de cadres. Les résultats des audits urbains, financiers et organisationnels des villes sénégalaises réalisés par l’Agence de Développement Municipal (ADM) dans le cadre du Programme d’Appui aux Communes (PAC) a permis de diagnostiquer, entre autres, le faible niveau de qualification des ressources humaines des municipalités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44A4FD0F-CA71-4B24-9953-49CB64ABFF4D}" type="slidenum">
              <a:t>27</a:t>
            </a:fld>
          </a:p>
        </p:txBody>
      </p:sp>
      <p:sp>
        <p:nvSpPr>
          <p:cNvPr id="4" name="PlaceHolder 3"/>
          <p:cNvSpPr>
            <a:spLocks noGrp="1"/>
          </p:cNvSpPr>
          <p:nvPr>
            <p:ph type="dt" idx="1"/>
          </p:nvPr>
        </p:nvSpPr>
        <p:spPr/>
        <p:txBody>
          <a:bodyPr/>
          <a:p>
            <a:fld id="{7EFC4E34-5909-4616-A94A-312DB59425B1}"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dd7df"/>
                </a:solidFill>
                <a:latin typeface="Tahoma"/>
              </a:rPr>
              <a:t>Genre </a:t>
            </a:r>
            <a:endParaRPr b="1" lang="en-US" sz="4800" spc="-1" strike="noStrike">
              <a:solidFill>
                <a:srgbClr val="cdd7df"/>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 population sénégalaise est composée à 52% de femmes.</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Les rapports sociaux entre les sexes  sont caractérisés par un écart important au profit des hommes. Les femmes </a:t>
            </a:r>
            <a:r>
              <a:rPr b="0" lang="fr-FR" sz="3200" spc="-1" strike="noStrike">
                <a:solidFill>
                  <a:srgbClr val="ffffff"/>
                </a:solidFill>
                <a:latin typeface="Tahoma"/>
              </a:rPr>
              <a:t>constituent souvent la frange la moins bien éduquée, la plus pauvre et la plus marginalisé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ECBE703E-7728-4F75-A1DD-4D5FA72F7438}" type="slidenum">
              <a:t>28</a:t>
            </a:fld>
          </a:p>
        </p:txBody>
      </p:sp>
      <p:sp>
        <p:nvSpPr>
          <p:cNvPr id="5" name="PlaceHolder 4"/>
          <p:cNvSpPr>
            <a:spLocks noGrp="1"/>
          </p:cNvSpPr>
          <p:nvPr>
            <p:ph type="dt" idx="1"/>
          </p:nvPr>
        </p:nvSpPr>
        <p:spPr/>
        <p:txBody>
          <a:bodyPr/>
          <a:p>
            <a:fld id="{35C99C99-12B9-441C-8D35-0E31FA798DE8}"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863280" y="260280"/>
            <a:ext cx="7543800" cy="5616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ffff"/>
                </a:solidFill>
                <a:latin typeface="Tahoma"/>
              </a:rPr>
              <a:t>Problématiques abordé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prostitution et du VIH/SIDA </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émancipation des femmes et participation à la prise de décision </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violence faite aux femmes </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travail des enfants </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ahoma"/>
              </a:rPr>
              <a:t>Mendicité</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8934841-6DF9-4CEC-92A8-BB0C3D7B9FC2}" type="slidenum">
              <a:t>29</a:t>
            </a:fld>
          </a:p>
        </p:txBody>
      </p:sp>
      <p:sp>
        <p:nvSpPr>
          <p:cNvPr id="4" name="PlaceHolder 3"/>
          <p:cNvSpPr>
            <a:spLocks noGrp="1"/>
          </p:cNvSpPr>
          <p:nvPr>
            <p:ph type="dt" idx="1"/>
          </p:nvPr>
        </p:nvSpPr>
        <p:spPr/>
        <p:txBody>
          <a:bodyPr/>
          <a:p>
            <a:fld id="{9635550A-B824-45E7-AD15-1F779E6D11E5}"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3120"/>
            <a:ext cx="75438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Contexte </a:t>
            </a:r>
            <a:endParaRPr b="1" lang="en-US" sz="4400" spc="-1" strike="noStrike">
              <a:solidFill>
                <a:srgbClr val="cdd7df"/>
              </a:solidFill>
              <a:latin typeface="Tahoma"/>
            </a:endParaRPr>
          </a:p>
        </p:txBody>
      </p:sp>
      <p:sp>
        <p:nvSpPr>
          <p:cNvPr id="117" name="PlaceHolder 2"/>
          <p:cNvSpPr>
            <a:spLocks noGrp="1"/>
          </p:cNvSpPr>
          <p:nvPr>
            <p:ph/>
          </p:nvPr>
        </p:nvSpPr>
        <p:spPr>
          <a:xfrm>
            <a:off x="1439640" y="1844280"/>
            <a:ext cx="7475400" cy="4251240"/>
          </a:xfrm>
          <a:prstGeom prst="rect">
            <a:avLst/>
          </a:prstGeom>
          <a:noFill/>
          <a:ln w="0">
            <a:noFill/>
          </a:ln>
        </p:spPr>
        <p:txBody>
          <a:bodyPr lIns="92160" rIns="92160" tIns="46080" bIns="46080" anchor="t">
            <a:normAutofit/>
          </a:bodyPr>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Regional Urban Sector Profile Study (RUSPS) initié par ONU-HABITAT dans 25 pays africains et arabes</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 but : contribuer à:  </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a politique de réduction de la pauvreté urbaine aux niveaux local, national et régional</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a mise en œuvre OM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pproche: TDR standards développés par la CE et déjà testés par ONU-HABITAT en Somalie, au Kenya et en Egypt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ys concernés en Afrique Occidentale : Niger, Sénégal, Burkina Fas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ays concernés en Afrique Centrale: RDC, Cameroun, Tchad</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F2922786-D127-4DA9-8301-C463790044AB}" type="slidenum">
              <a:t>3</a:t>
            </a:fld>
          </a:p>
        </p:txBody>
      </p:sp>
      <p:sp>
        <p:nvSpPr>
          <p:cNvPr id="5" name="PlaceHolder 4"/>
          <p:cNvSpPr>
            <a:spLocks noGrp="1"/>
          </p:cNvSpPr>
          <p:nvPr>
            <p:ph type="dt" idx="1"/>
          </p:nvPr>
        </p:nvSpPr>
        <p:spPr/>
        <p:txBody>
          <a:bodyPr/>
          <a:p>
            <a:fld id="{8DA7EAAF-B6B9-43A2-BDD0-7EFE7491A438}"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Prostitution et VIH/SIDA</a:t>
            </a:r>
            <a:endParaRPr b="1" lang="en-US" sz="3200" spc="-1" strike="noStrike">
              <a:solidFill>
                <a:srgbClr val="cdd7df"/>
              </a:solidFill>
              <a:latin typeface="Tahoma"/>
            </a:endParaRPr>
          </a:p>
        </p:txBody>
      </p:sp>
      <p:sp>
        <p:nvSpPr>
          <p:cNvPr id="163" name="PlaceHolder 2"/>
          <p:cNvSpPr>
            <a:spLocks noGrp="1"/>
          </p:cNvSpPr>
          <p:nvPr>
            <p:ph/>
          </p:nvPr>
        </p:nvSpPr>
        <p:spPr>
          <a:xfrm>
            <a:off x="934560" y="1449360"/>
            <a:ext cx="7543800" cy="4114800"/>
          </a:xfrm>
          <a:prstGeom prst="rect">
            <a:avLst/>
          </a:prstGeom>
          <a:noFill/>
          <a:ln w="0">
            <a:noFill/>
          </a:ln>
        </p:spPr>
        <p:txBody>
          <a:bodyPr lIns="90000" rIns="90000" tIns="46800" bIns="46800" anchor="t">
            <a:normAutofit/>
          </a:bodyPr>
          <a:p>
            <a:pPr marL="343080" indent="-343080">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aux de prévalence (2000) : </a:t>
            </a:r>
            <a:r>
              <a:rPr b="0" lang="fr-CA" sz="2800" spc="-1" strike="noStrike">
                <a:solidFill>
                  <a:srgbClr val="ffffff"/>
                </a:solidFill>
                <a:latin typeface="Tahoma"/>
              </a:rPr>
              <a:t>14% chez les prostituées, alors qu’elle se situe entre 1 et 2% pour la population totale</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1998: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akar: </a:t>
            </a:r>
            <a:r>
              <a:rPr b="0" lang="fr-CA" sz="2400" spc="-1" strike="noStrike">
                <a:solidFill>
                  <a:srgbClr val="ffffff"/>
                </a:solidFill>
                <a:latin typeface="Tahoma"/>
              </a:rPr>
              <a:t>8,68%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Ziguinchor: 34,25%</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Kaolack: 28,57%</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Thiès : 19,05%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Mbour: 10,81%</a:t>
            </a:r>
            <a:r>
              <a:rPr b="0" lang="fr-FR"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4220B13-3905-43D4-B07B-026873245561}" type="slidenum">
              <a:t>30</a:t>
            </a:fld>
          </a:p>
        </p:txBody>
      </p:sp>
      <p:sp>
        <p:nvSpPr>
          <p:cNvPr id="5" name="PlaceHolder 4"/>
          <p:cNvSpPr>
            <a:spLocks noGrp="1"/>
          </p:cNvSpPr>
          <p:nvPr>
            <p:ph type="dt" idx="1"/>
          </p:nvPr>
        </p:nvSpPr>
        <p:spPr/>
        <p:txBody>
          <a:bodyPr/>
          <a:p>
            <a:fld id="{7D46D252-D751-4D71-BB74-F09F4428FE68}"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Femmes et emplois</a:t>
            </a:r>
            <a:endParaRPr b="1" lang="en-US" sz="3200" spc="-1" strike="noStrike">
              <a:solidFill>
                <a:srgbClr val="cdd7df"/>
              </a:solidFill>
              <a:latin typeface="Tahoma"/>
            </a:endParaRPr>
          </a:p>
        </p:txBody>
      </p:sp>
      <p:sp>
        <p:nvSpPr>
          <p:cNvPr id="165" name="PlaceHolder 2"/>
          <p:cNvSpPr>
            <a:spLocks noGrp="1"/>
          </p:cNvSpPr>
          <p:nvPr>
            <p:ph/>
          </p:nvPr>
        </p:nvSpPr>
        <p:spPr>
          <a:xfrm>
            <a:off x="1042560" y="1483920"/>
            <a:ext cx="7543800" cy="4753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Enquêtes réalisées en 1989 et 2001 montrent une légère progression de la présence des femmes sur le marché de l’emploi à Dakar (35% en 1989 contre 37% en 2001).</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Parmi les jeunes femmes, la part des non scolarisées a baissé en passant de 42% en 1989 à 28% en 2001 et la progression touche tous les niveaux scolaire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spiration au travail n’est pas toujours couronnée de succès puisque parmi les femmes instruites, 15% cherchaient un emploi en 1989 et 10% en 2001.</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es femmes ayant suivi des études secondaires ou supérieures sont plus présentes sur le marché du travail.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Problématique très sensible des femmes migrantes </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E7B5219A-32CE-4F0F-A170-283CED502FBE}" type="slidenum">
              <a:t>31</a:t>
            </a:fld>
          </a:p>
        </p:txBody>
      </p:sp>
      <p:sp>
        <p:nvSpPr>
          <p:cNvPr id="5" name="PlaceHolder 4"/>
          <p:cNvSpPr>
            <a:spLocks noGrp="1"/>
          </p:cNvSpPr>
          <p:nvPr>
            <p:ph type="dt" idx="1"/>
          </p:nvPr>
        </p:nvSpPr>
        <p:spPr/>
        <p:txBody>
          <a:bodyPr/>
          <a:p>
            <a:fld id="{727E511C-F1BF-4FA2-BA38-50F682D9CB22}"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cdd7df"/>
                </a:solidFill>
                <a:latin typeface="Tahoma"/>
              </a:rPr>
              <a:t>Femmes chefs de ménages</a:t>
            </a:r>
            <a:endParaRPr b="1" lang="en-US" sz="2800" spc="-1" strike="noStrike">
              <a:solidFill>
                <a:srgbClr val="cdd7df"/>
              </a:solidFill>
              <a:latin typeface="Tahoma"/>
            </a:endParaRPr>
          </a:p>
        </p:txBody>
      </p:sp>
      <p:sp>
        <p:nvSpPr>
          <p:cNvPr id="167" name="PlaceHolder 2"/>
          <p:cNvSpPr>
            <a:spLocks noGrp="1"/>
          </p:cNvSpPr>
          <p:nvPr>
            <p:ph/>
          </p:nvPr>
        </p:nvSpPr>
        <p:spPr>
          <a:xfrm>
            <a:off x="934560" y="1520640"/>
            <a:ext cx="7543800" cy="49323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Travaillent surtout dans le secteur informel</a:t>
            </a:r>
            <a:endParaRPr b="0" lang="en-US" sz="2400" spc="-1" strike="noStrike">
              <a:solidFill>
                <a:srgbClr val="ffffff"/>
              </a:solidFill>
              <a:latin typeface="Tahoma"/>
            </a:endParaRPr>
          </a:p>
          <a:p>
            <a:pPr marL="339480" indent="-3394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Evolution des structures familiales, plus particulièrement à Dakar, montre une augmentation du nombre de ménages dirigés par les femmes</a:t>
            </a:r>
            <a:endParaRPr b="0" lang="en-US" sz="2400" spc="-1" strike="noStrike">
              <a:solidFill>
                <a:srgbClr val="ffffff"/>
              </a:solidFill>
              <a:latin typeface="Tahoma"/>
            </a:endParaRPr>
          </a:p>
          <a:p>
            <a:pPr marL="339480" indent="-3394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Aujourd’hui à Dakar, 1 chef de ménage sur 4 est une femme (16% en 1989-19,7% en 1994-95 )</a:t>
            </a:r>
            <a:r>
              <a:rPr b="0" lang="fr-FR" sz="2400" spc="-1" strike="noStrike">
                <a:solidFill>
                  <a:srgbClr val="ffffff"/>
                </a:solidFill>
                <a:latin typeface="Tahoma"/>
              </a:rPr>
              <a:t> </a:t>
            </a:r>
            <a:endParaRPr b="0" lang="en-US" sz="2400" spc="-1" strike="noStrike">
              <a:solidFill>
                <a:srgbClr val="ffffff"/>
              </a:solidFill>
              <a:latin typeface="Tahoma"/>
            </a:endParaRPr>
          </a:p>
          <a:p>
            <a:pPr marL="339480" indent="-3394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Ne renvoie pas une revendication d’autonomisation des femmes</a:t>
            </a:r>
            <a:r>
              <a:rPr b="0" lang="fr-FR" sz="2400" spc="-1" strike="noStrike">
                <a:solidFill>
                  <a:srgbClr val="ffffff"/>
                </a:solidFill>
                <a:latin typeface="Tahoma"/>
              </a:rPr>
              <a:t> car c’est une situation de fait:</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Veuves: 48%</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égime polygame: 1/3</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ivorcées: 12%</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élibataires: seulement -4%</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2BE25A9-B5CD-4244-8AD6-D9A9E57241C8}" type="slidenum">
              <a:t>32</a:t>
            </a:fld>
          </a:p>
        </p:txBody>
      </p:sp>
      <p:sp>
        <p:nvSpPr>
          <p:cNvPr id="5" name="PlaceHolder 4"/>
          <p:cNvSpPr>
            <a:spLocks noGrp="1"/>
          </p:cNvSpPr>
          <p:nvPr>
            <p:ph type="dt" idx="1"/>
          </p:nvPr>
        </p:nvSpPr>
        <p:spPr/>
        <p:txBody>
          <a:bodyPr/>
          <a:p>
            <a:fld id="{53CAE725-68A9-4107-84FF-6D1CAB2E19DE}"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Emancipation sociale</a:t>
            </a:r>
            <a:endParaRPr b="1" lang="en-US" sz="3200" spc="-1" strike="noStrike">
              <a:solidFill>
                <a:srgbClr val="cdd7df"/>
              </a:solidFill>
              <a:latin typeface="Tahoma"/>
            </a:endParaRPr>
          </a:p>
        </p:txBody>
      </p:sp>
      <p:sp>
        <p:nvSpPr>
          <p:cNvPr id="169" name="PlaceHolder 2"/>
          <p:cNvSpPr>
            <a:spLocks noGrp="1"/>
          </p:cNvSpPr>
          <p:nvPr>
            <p:ph/>
          </p:nvPr>
        </p:nvSpPr>
        <p:spPr>
          <a:xfrm>
            <a:off x="1007640" y="15922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itiatives des femmes pour sortir de la pauvreté.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n milieu urbain, à partir de leurs associations traditionnelles, les femmes se sont regroupées autour d’activités économiques telles que le maraîchage, la teinture, le séchage de poisson ou le petit commerce. Pour financer leurs activités, elles ont eu recours à l’épargne rotative (tontine) et ont cherché à renforcer leurs compétences grâce à des cours d’alphabétisation fonctionnelle. Mais de tels groupements limités par leur petite taille, le manque d’accès au crédit, à la terre ou à des marchés importants, ne permettent pas aux femmes d’améliorer leurs conditions de vi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B204499-E181-4DDB-A215-1675EA0B98C8}" type="slidenum">
              <a:t>33</a:t>
            </a:fld>
          </a:p>
        </p:txBody>
      </p:sp>
      <p:sp>
        <p:nvSpPr>
          <p:cNvPr id="5" name="PlaceHolder 4"/>
          <p:cNvSpPr>
            <a:spLocks noGrp="1"/>
          </p:cNvSpPr>
          <p:nvPr>
            <p:ph type="dt" idx="1"/>
          </p:nvPr>
        </p:nvSpPr>
        <p:spPr/>
        <p:txBody>
          <a:bodyPr/>
          <a:p>
            <a:fld id="{6F4D4D3B-8466-4CE4-8239-19B01929E364}"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La violence faite aux femmes</a:t>
            </a:r>
            <a:endParaRPr b="1" lang="en-US" sz="3200" spc="-1" strike="noStrike">
              <a:solidFill>
                <a:srgbClr val="cdd7df"/>
              </a:solidFill>
              <a:latin typeface="Tahoma"/>
            </a:endParaRPr>
          </a:p>
        </p:txBody>
      </p:sp>
      <p:sp>
        <p:nvSpPr>
          <p:cNvPr id="171" name="PlaceHolder 2"/>
          <p:cNvSpPr>
            <a:spLocks noGrp="1"/>
          </p:cNvSpPr>
          <p:nvPr>
            <p:ph/>
          </p:nvPr>
        </p:nvSpPr>
        <p:spPr>
          <a:xfrm>
            <a:off x="1007640" y="1484280"/>
            <a:ext cx="75438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Fait courant dans les quartiers urbains pauvres et chez les familles démunies en particulier</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Venant des enfants, des agresseurs, du mari</a:t>
            </a:r>
            <a:endParaRPr b="0" lang="en-US" sz="3200" spc="-1" strike="noStrike">
              <a:solidFill>
                <a:srgbClr val="ffffff"/>
              </a:solidFill>
              <a:latin typeface="Tahoma"/>
            </a:endParaRPr>
          </a:p>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Sur le plan économique: exploitation des femmes dans les usines</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605FE56-749F-493E-9527-74229EEACE08}" type="slidenum">
              <a:t>34</a:t>
            </a:fld>
          </a:p>
        </p:txBody>
      </p:sp>
      <p:sp>
        <p:nvSpPr>
          <p:cNvPr id="5" name="PlaceHolder 4"/>
          <p:cNvSpPr>
            <a:spLocks noGrp="1"/>
          </p:cNvSpPr>
          <p:nvPr>
            <p:ph type="dt" idx="1"/>
          </p:nvPr>
        </p:nvSpPr>
        <p:spPr/>
        <p:txBody>
          <a:bodyPr/>
          <a:p>
            <a:fld id="{90B69953-D038-4F58-9174-0F411CF330A8}"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Responsabilité </a:t>
            </a:r>
            <a:endParaRPr b="1" lang="en-US" sz="3200" spc="-1" strike="noStrike">
              <a:solidFill>
                <a:srgbClr val="cdd7df"/>
              </a:solidFill>
              <a:latin typeface="Tahoma"/>
            </a:endParaRPr>
          </a:p>
        </p:txBody>
      </p:sp>
      <p:sp>
        <p:nvSpPr>
          <p:cNvPr id="173" name="PlaceHolder 2"/>
          <p:cNvSpPr>
            <a:spLocks noGrp="1"/>
          </p:cNvSpPr>
          <p:nvPr>
            <p:ph/>
          </p:nvPr>
        </p:nvSpPr>
        <p:spPr>
          <a:xfrm>
            <a:off x="863280" y="141300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Depuis l’avènement de l’alternance des avancées ont été notées, notamment dans la Constitution et l’amélioration quantitative et qualitative de la représentation féminine dans les lieux de pouvoir, même s’il reste encore beaucoup à faire. Le fait d’avoir nommé une femme à la tête du Gouvernement, au-delà de sa haute portée symbolique, traduit un saut qualitatif aux conséquences multiples et démontre qu’une femme peut remplir les plus importantes fonctions dans le pays.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Malgré tout, leur place au niveau des postes de décision reste encore très faible: elles</a:t>
            </a:r>
            <a:r>
              <a:rPr b="0" lang="fr-FR" sz="2000" spc="-1" strike="noStrike">
                <a:solidFill>
                  <a:srgbClr val="ffffff"/>
                </a:solidFill>
                <a:latin typeface="Tahoma"/>
              </a:rPr>
              <a:t> n’occupent que 9,4% des sièges de conseillers municipaux et 14, 56% des conseillers régionaux en 2001</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ffectif de femmes cadres dans le secteur privé: 4% en 1997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B206FBC-7E69-494A-9791-A2B15265B03C}" type="slidenum">
              <a:t>35</a:t>
            </a:fld>
          </a:p>
        </p:txBody>
      </p:sp>
      <p:sp>
        <p:nvSpPr>
          <p:cNvPr id="5" name="PlaceHolder 4"/>
          <p:cNvSpPr>
            <a:spLocks noGrp="1"/>
          </p:cNvSpPr>
          <p:nvPr>
            <p:ph type="dt" idx="1"/>
          </p:nvPr>
        </p:nvSpPr>
        <p:spPr/>
        <p:txBody>
          <a:bodyPr/>
          <a:p>
            <a:fld id="{1DB43B88-1F29-4F27-B49E-0FCF4A312F8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La mendicité</a:t>
            </a:r>
            <a:endParaRPr b="1" lang="en-US" sz="3200" spc="-1" strike="noStrike">
              <a:solidFill>
                <a:srgbClr val="cdd7df"/>
              </a:solidFill>
              <a:latin typeface="Tahoma"/>
            </a:endParaRPr>
          </a:p>
        </p:txBody>
      </p:sp>
      <p:sp>
        <p:nvSpPr>
          <p:cNvPr id="175" name="PlaceHolder 2"/>
          <p:cNvSpPr>
            <a:spLocks noGrp="1"/>
          </p:cNvSpPr>
          <p:nvPr>
            <p:ph/>
          </p:nvPr>
        </p:nvSpPr>
        <p:spPr>
          <a:xfrm>
            <a:off x="1007640" y="1449360"/>
            <a:ext cx="754380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ahoma"/>
              </a:rPr>
              <a:t>La problématique de la mendicité à l’heure actuelle dans les centres urbains du pays, en particulier à Dakar où ce phénomène prend de plus en plus d’ampleur constitue une douloureuse épine au pied des autorités centrales, locales, de la société civile, de la communauté des bailleurs et de toute la population sénégalaise en général.</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ahoma"/>
              </a:rPr>
              <a:t>En dépit de toutes les actions initiées à l’échelle nationale et même internationale, à travers les séminaires, conférences et autres rencontres organisés entre les différents acteurs, le problème de la mendicité n’a guère évolué. Les pesanteurs culturelles et traditionnelles ne sont pas étrangères à cette difficulté à trouver des solutions à ce problèm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ahoma"/>
              </a:rPr>
              <a:t>La question de la mendicité chez les enfants, en particulier, semble être associée à des pratiques culturelles et des représentations religieuses au Sénégal. Elle pose véritablement un problème défiant les droits de l’enfant. Les talibés et mendiants (enfants et adolescents) sont estimés à 100 000 en 2000.</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ffffff"/>
                </a:solidFill>
                <a:latin typeface="Tahoma"/>
              </a:rPr>
              <a:t>La question de la mendicité pose également le problème de la perméabilité de nos frontières. En effet, nombreux sont les maliens (en général des couples dont l’un est aveugle) postés aux feux rouges de la capitale. </a:t>
            </a:r>
            <a:endParaRPr b="0" lang="en-US" sz="1400" spc="-1" strike="noStrike">
              <a:solidFill>
                <a:srgbClr val="ffffff"/>
              </a:solidFill>
              <a:latin typeface="Tahoma"/>
            </a:endParaRPr>
          </a:p>
        </p:txBody>
      </p:sp>
      <p:sp>
        <p:nvSpPr>
          <p:cNvPr id="4" name="PlaceHolder 3"/>
          <p:cNvSpPr>
            <a:spLocks noGrp="1"/>
          </p:cNvSpPr>
          <p:nvPr>
            <p:ph type="sldNum" idx="3"/>
          </p:nvPr>
        </p:nvSpPr>
        <p:spPr/>
        <p:txBody>
          <a:bodyPr/>
          <a:p>
            <a:fld id="{3BFEF83B-D9AE-4A46-82F8-868B0FC3E2FE}" type="slidenum">
              <a:t>36</a:t>
            </a:fld>
          </a:p>
        </p:txBody>
      </p:sp>
      <p:sp>
        <p:nvSpPr>
          <p:cNvPr id="5" name="PlaceHolder 4"/>
          <p:cNvSpPr>
            <a:spLocks noGrp="1"/>
          </p:cNvSpPr>
          <p:nvPr>
            <p:ph type="dt" idx="1"/>
          </p:nvPr>
        </p:nvSpPr>
        <p:spPr/>
        <p:txBody>
          <a:bodyPr/>
          <a:p>
            <a:fld id="{6D99A15E-CCCD-4FE0-A876-7DA9CB397842}"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Le travail des enfants</a:t>
            </a:r>
            <a:endParaRPr b="1" lang="en-US" sz="3200" spc="-1" strike="noStrike">
              <a:solidFill>
                <a:srgbClr val="cdd7df"/>
              </a:solidFill>
              <a:latin typeface="Tahoma"/>
            </a:endParaRPr>
          </a:p>
        </p:txBody>
      </p:sp>
      <p:sp>
        <p:nvSpPr>
          <p:cNvPr id="177" name="PlaceHolder 2"/>
          <p:cNvSpPr>
            <a:spLocks noGrp="1"/>
          </p:cNvSpPr>
          <p:nvPr>
            <p:ph/>
          </p:nvPr>
        </p:nvSpPr>
        <p:spPr>
          <a:xfrm>
            <a:off x="899640" y="1484280"/>
            <a:ext cx="754380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Exercice d’une activité économique par les jeunes de moins de 15 ans. Il est étroitement lié à la problématique genre en ce sens que cette catégorie d’enfants qui exercent une activité économique est très souvent mue par la nécessité d’aider des parents démunis.</a:t>
            </a:r>
            <a:endParaRPr b="0" lang="en-US" sz="2000" spc="-1" strike="noStrike">
              <a:solidFill>
                <a:srgbClr val="ffffff"/>
              </a:solidFill>
              <a:latin typeface="Tahoma"/>
            </a:endParaRPr>
          </a:p>
          <a:p>
            <a:pPr marL="335880" indent="-3358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D’après les enquêtes qualitatives conduite au Sénégal entre 1988 et 1993, près de 38% des enfants qui travaillent au Sénégal vivent en milieu urbain.</a:t>
            </a:r>
            <a:endParaRPr b="0" lang="en-US" sz="2000" spc="-1" strike="noStrike">
              <a:solidFill>
                <a:srgbClr val="ffffff"/>
              </a:solidFill>
              <a:latin typeface="Tahoma"/>
            </a:endParaRPr>
          </a:p>
          <a:p>
            <a:pPr marL="335880" indent="-3358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En 2000, 37,6% des enfants de 5 à 15 ans travaillaient dont 15% exerçaient une activité rémunérée.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	</a:t>
            </a:r>
            <a:r>
              <a:rPr b="0" lang="fr-CA" sz="2000" spc="-1" strike="noStrike">
                <a:solidFill>
                  <a:srgbClr val="ffffff"/>
                </a:solidFill>
                <a:latin typeface="Tahoma"/>
              </a:rPr>
              <a:t>12% des enfants effectuaient plus de 4 heures de travaux domestiques/jour </a:t>
            </a:r>
            <a:endParaRPr b="0" lang="en-US" sz="2000" spc="-1" strike="noStrike">
              <a:solidFill>
                <a:srgbClr val="ffffff"/>
              </a:solidFill>
              <a:latin typeface="Tahoma"/>
            </a:endParaRPr>
          </a:p>
          <a:p>
            <a:pPr marL="335880" indent="-3358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ahoma"/>
              </a:rPr>
              <a:t>Suivant l’occupation, on note une très forte prépondérance des jeunes domestiques (78%), suivi des salariés (9%), des apprentis (6%) et des travailleurs indépendants (5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BDE20A7-448F-48A5-9651-6C881A6232AB}" type="slidenum">
              <a:t>37</a:t>
            </a:fld>
          </a:p>
        </p:txBody>
      </p:sp>
      <p:sp>
        <p:nvSpPr>
          <p:cNvPr id="5" name="PlaceHolder 4"/>
          <p:cNvSpPr>
            <a:spLocks noGrp="1"/>
          </p:cNvSpPr>
          <p:nvPr>
            <p:ph type="dt" idx="1"/>
          </p:nvPr>
        </p:nvSpPr>
        <p:spPr/>
        <p:txBody>
          <a:bodyPr/>
          <a:p>
            <a:fld id="{AC7287E3-046D-4520-A4A7-96EB2F4B50D7}"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Contraintes de l’égalité des sexes et de l’autonomie des femmes</a:t>
            </a:r>
            <a:endParaRPr b="1" lang="en-US" sz="3200" spc="-1" strike="noStrike">
              <a:solidFill>
                <a:srgbClr val="cdd7df"/>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fréquence des redoublements, des abandons et des échecs scolaires des filles;</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faible intégration de la dimension genre dans les politiques et programmes;</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insuffisance de données désagrégées selon le sexe, à tous les niveaux d’activités, pour l’élaboration d’indicateurs;</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faible implication du secteur privé et des associations professionnelles dans la promotion de la femme;</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e faible niveau d’éducation, de formation et d’alphabétisation des femmes;</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forte mortalité et morbidité maternelle;</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grande vulnérabilité des femmes et des adolescentes aux IST/VIH-SIDA;</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 faible présentation des femmes dans les instances de décision;</a:t>
            </a:r>
            <a:endParaRPr b="0" lang="en-US" sz="1800" spc="-1" strike="noStrike">
              <a:solidFill>
                <a:srgbClr val="ffffff"/>
              </a:solidFill>
              <a:latin typeface="Tahoma"/>
            </a:endParaRPr>
          </a:p>
          <a:p>
            <a:pPr marL="339480" indent="-3394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ahoma"/>
              </a:rPr>
              <a:t>L’absence d’une composante genre dans chacun des OMD et le déficit d’indicateurs sensibles au genre pour tous les autres OMD</a:t>
            </a:r>
            <a:r>
              <a:rPr b="0" lang="fr-FR"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F920E13A-DBD2-49DF-9D50-1B5CE4747890}" type="slidenum">
              <a:t>38</a:t>
            </a:fld>
          </a:p>
        </p:txBody>
      </p:sp>
      <p:sp>
        <p:nvSpPr>
          <p:cNvPr id="5" name="PlaceHolder 4"/>
          <p:cNvSpPr>
            <a:spLocks noGrp="1"/>
          </p:cNvSpPr>
          <p:nvPr>
            <p:ph type="dt" idx="1"/>
          </p:nvPr>
        </p:nvSpPr>
        <p:spPr/>
        <p:txBody>
          <a:bodyPr/>
          <a:p>
            <a:fld id="{1F9ADB98-7EB2-4AC9-AFDC-A08BD427C8D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Environnement urbain</a:t>
            </a:r>
            <a:endParaRPr b="1" lang="en-US" sz="4400" spc="-1" strike="noStrike">
              <a:solidFill>
                <a:srgbClr val="cdd7df"/>
              </a:solidFill>
              <a:latin typeface="Tahoma"/>
            </a:endParaRPr>
          </a:p>
        </p:txBody>
      </p:sp>
      <p:sp>
        <p:nvSpPr>
          <p:cNvPr id="18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rPr>
              <a:t>Principales questions environnementales urbaines</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diagnostic du secteur de l’environnement urbain révèle une situation assez critique en dépit des initiatives  mises en œuvre ces dernières années dans différents domaines, aussi bien par l’Etat, les ONG que les collectivités locales.</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tte situation difficile engendre une forte paupérisation. La dégradation sensible des conditions d’existence des populations vivant en milieu rural, les contraint à l’exode ; ce qui aggrave les problèmes de toute sorte, en particulier, environnementaux en vill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0EC841BA-1D3D-44C7-B036-621D5C11479A}" type="slidenum">
              <a:t>39</a:t>
            </a:fld>
          </a:p>
        </p:txBody>
      </p:sp>
      <p:sp>
        <p:nvSpPr>
          <p:cNvPr id="5" name="PlaceHolder 4"/>
          <p:cNvSpPr>
            <a:spLocks noGrp="1"/>
          </p:cNvSpPr>
          <p:nvPr>
            <p:ph type="dt" idx="1"/>
          </p:nvPr>
        </p:nvSpPr>
        <p:spPr/>
        <p:txBody>
          <a:bodyPr/>
          <a:p>
            <a:fld id="{6BE7E6CC-5D72-47FF-8F62-9B48AE0190AA}"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907640" y="333000"/>
            <a:ext cx="5588280" cy="3737160"/>
          </a:xfrm>
          <a:prstGeom prst="rect">
            <a:avLst/>
          </a:prstGeom>
          <a:noFill/>
          <a:ln w="0">
            <a:noFill/>
          </a:ln>
        </p:spPr>
        <p:txBody>
          <a:bodyPr lIns="92160" rIns="92160" tIns="46080" bIns="46080" anchor="t">
            <a:normAutofit fontScale="67000"/>
          </a:bodyPr>
          <a:p>
            <a:pPr marL="229680" indent="-2296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diagnostic et l’analyse du secteur urbain sont faits à l’échelle nationale et à celle de trois villes: capitale, ville moyenne et ville secondaire. Dakar-Kaolack–Kanel</a:t>
            </a:r>
            <a:endParaRPr b="0" lang="en-US" sz="2000" spc="-1" strike="noStrike">
              <a:solidFill>
                <a:srgbClr val="ffffff"/>
              </a:solidFill>
              <a:latin typeface="Tahoma"/>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29680" indent="-2296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ritères de choix : </a:t>
            </a:r>
            <a:endParaRPr b="0" lang="en-US" sz="20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Taille de la population </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aractéristiques typiques plutôt qu’exceptionnelles à l’intérieur du système urbain national</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Faisabilité logistique: sécurité, accès, etc.</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Réceptivité locale, </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réoccupations et priorités de l’acteur principal</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isponibilité de données secondaires</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Rôle de l’AMS dans le choix des villes</a:t>
            </a:r>
            <a:endParaRPr b="0" lang="en-US" sz="1800" spc="-1" strike="noStrike">
              <a:solidFill>
                <a:srgbClr val="ffffff"/>
              </a:solidFill>
              <a:latin typeface="Tahoma"/>
            </a:endParaRPr>
          </a:p>
          <a:p>
            <a:pPr lvl="1" marL="497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229680" indent="-2296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Question de la gestion urbaine et de la réduction de la pauvreté est traitée à travers quatre thématiques principales:</a:t>
            </a:r>
            <a:endParaRPr b="0" lang="en-US" sz="20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Habitat et bidonvilles</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Gouvernance urbaine</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Genre</a:t>
            </a:r>
            <a:endParaRPr b="0" lang="en-US" sz="1800" spc="-1" strike="noStrike">
              <a:solidFill>
                <a:srgbClr val="ffffff"/>
              </a:solidFill>
              <a:latin typeface="Tahoma"/>
            </a:endParaRPr>
          </a:p>
          <a:p>
            <a:pPr lvl="1" marL="497520" indent="-19116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Environnement urbain</a:t>
            </a:r>
            <a:endParaRPr b="0" lang="en-US" sz="1800" spc="-1" strike="noStrike">
              <a:solidFill>
                <a:srgbClr val="ffffff"/>
              </a:solidFill>
              <a:latin typeface="Tahoma"/>
            </a:endParaRPr>
          </a:p>
          <a:p>
            <a:pPr lvl="1" marL="497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DF66557C-C2DE-4DCE-B798-C487EA65C1F1}" type="slidenum">
              <a:t>4</a:t>
            </a:fld>
          </a:p>
        </p:txBody>
      </p:sp>
      <p:sp>
        <p:nvSpPr>
          <p:cNvPr id="4" name="PlaceHolder 3"/>
          <p:cNvSpPr>
            <a:spLocks noGrp="1"/>
          </p:cNvSpPr>
          <p:nvPr>
            <p:ph type="dt" idx="1"/>
          </p:nvPr>
        </p:nvSpPr>
        <p:spPr/>
        <p:txBody>
          <a:bodyPr/>
          <a:p>
            <a:fld id="{D7B8D976-2F18-4A73-AE0D-081CA4DC2C8A}"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dd7df"/>
                </a:solidFill>
                <a:latin typeface="Tahoma"/>
              </a:rPr>
              <a:t>Problématique des déchets</a:t>
            </a:r>
            <a:endParaRPr b="1" lang="en-US" sz="3200" spc="-1" strike="noStrike">
              <a:solidFill>
                <a:srgbClr val="cdd7df"/>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ff"/>
                </a:solidFill>
                <a:uFillTx/>
                <a:latin typeface="Tahoma"/>
              </a:rPr>
              <a:t>Déchets solides</a:t>
            </a:r>
            <a:endParaRPr b="0" lang="en-US" sz="3200" spc="-1" strike="noStrike">
              <a:solidFill>
                <a:srgbClr val="ffffff"/>
              </a:solidFill>
              <a:latin typeface="Tahoma"/>
            </a:endParaRPr>
          </a:p>
          <a:p>
            <a:pPr marL="343080" indent="-343080">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dégradation du système d’évacuation des ordures ménagères dans les centres urbains pose avec acuité un problème de santé publique et de gestion écologique durable au Sénégal. </a:t>
            </a:r>
            <a:endParaRPr b="0" lang="en-US" sz="2800" spc="-1" strike="noStrike">
              <a:solidFill>
                <a:srgbClr val="ffffff"/>
              </a:solidFill>
              <a:latin typeface="Tahoma"/>
            </a:endParaRPr>
          </a:p>
          <a:p>
            <a:pPr marL="343080" indent="-343080">
              <a:lnSpc>
                <a:spcPct val="8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En matière de collecte et d’évacuation des ordures ménagères, 21,4% des ménages bénéficient d’un ramassage public ou privé avec un taux de 46,9% en milieu urbain et 2,1% en milieu rural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BD1533A-1CC1-4E3F-9389-670D7D4844F9}" type="slidenum">
              <a:t>40</a:t>
            </a:fld>
          </a:p>
        </p:txBody>
      </p:sp>
      <p:sp>
        <p:nvSpPr>
          <p:cNvPr id="5" name="PlaceHolder 4"/>
          <p:cNvSpPr>
            <a:spLocks noGrp="1"/>
          </p:cNvSpPr>
          <p:nvPr>
            <p:ph type="dt" idx="1"/>
          </p:nvPr>
        </p:nvSpPr>
        <p:spPr/>
        <p:txBody>
          <a:bodyPr/>
          <a:p>
            <a:fld id="{504C4435-F1F3-4D6E-A0A4-C33E3BE6D9A1}"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07640" y="549000"/>
            <a:ext cx="7543800" cy="572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En matière de collecte et d’évacuation des ordures ménagères, 46,9% des ménages bénéficient d’un ramassage public ou privé en milieu urbain </a:t>
            </a:r>
            <a:endParaRPr b="0" lang="en-US" sz="2800" spc="-1" strike="noStrike">
              <a:solidFill>
                <a:srgbClr val="ffffff"/>
              </a:solidFill>
              <a:latin typeface="Tahoma"/>
            </a:endParaRPr>
          </a:p>
          <a:p>
            <a:pPr marL="343080" indent="-343080">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aux d’accès à l’assainissement urbain à l’échelle nationale est de 37%</a:t>
            </a:r>
            <a:endParaRPr b="0" lang="en-US" sz="2800" spc="-1" strike="noStrike">
              <a:solidFill>
                <a:srgbClr val="ffffff"/>
              </a:solidFill>
              <a:latin typeface="Tahoma"/>
            </a:endParaRPr>
          </a:p>
          <a:p>
            <a:pPr marL="343080" indent="-343080">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gestion  actuelle des déchets au Sénégal pose de sérieux problèmes aussi bien dans la capitale que dans le reste du pays. Faute d’une bonne planification, l’Etat sénégalais ne peut pas faire efficacement face au fléau et les décharges sauvages sont très répandue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B0A2A22E-C68D-45C1-836B-521B954E9C0B}" type="slidenum">
              <a:t>41</a:t>
            </a:fld>
          </a:p>
        </p:txBody>
      </p:sp>
      <p:sp>
        <p:nvSpPr>
          <p:cNvPr id="4" name="PlaceHolder 3"/>
          <p:cNvSpPr>
            <a:spLocks noGrp="1"/>
          </p:cNvSpPr>
          <p:nvPr>
            <p:ph type="dt" idx="1"/>
          </p:nvPr>
        </p:nvSpPr>
        <p:spPr/>
        <p:txBody>
          <a:bodyPr/>
          <a:p>
            <a:fld id="{E45FD8BA-17B7-4531-961E-956ACE25B2AB}"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691920"/>
            <a:ext cx="7543800" cy="493236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kar: tonnages des ordures collectées en 2001 étaient de  457 200 tonnes (Aprodak)</a:t>
            </a:r>
            <a:endParaRPr b="0" lang="en-US" sz="2800" spc="-1" strike="noStrike">
              <a:solidFill>
                <a:srgbClr val="ffffff"/>
              </a:solidFill>
              <a:latin typeface="Tahoma"/>
            </a:endParaRPr>
          </a:p>
          <a:p>
            <a:pPr lvl="1" marL="727920" indent="-28008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roblème de déversement: Mbeubeuss </a:t>
            </a:r>
            <a:endParaRPr b="0" lang="en-US" sz="2400" spc="-1" strike="noStrike">
              <a:solidFill>
                <a:srgbClr val="ffffff"/>
              </a:solidFill>
              <a:latin typeface="Tahoma"/>
            </a:endParaRPr>
          </a:p>
          <a:p>
            <a:pPr marL="335880" indent="-335880">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ns presque tous les centres urbains secondaires, la collecte et le transfert des ordures se fait par les moyens limités de la mairie dans le centre-ville et les marchés en général, le reste des quartiers étant assuré par les populations organisées en groupements, au moyen de charrettes tractées par des chevaux ou des ânes.</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D75B4FE4-1798-45A1-9C2A-F2C6BBE83C65}" type="slidenum">
              <a:t>42</a:t>
            </a:fld>
          </a:p>
        </p:txBody>
      </p:sp>
      <p:sp>
        <p:nvSpPr>
          <p:cNvPr id="4" name="PlaceHolder 3"/>
          <p:cNvSpPr>
            <a:spLocks noGrp="1"/>
          </p:cNvSpPr>
          <p:nvPr>
            <p:ph type="dt" idx="1"/>
          </p:nvPr>
        </p:nvSpPr>
        <p:spPr/>
        <p:txBody>
          <a:bodyPr/>
          <a:p>
            <a:fld id="{6D5C34C9-31F3-4B02-8737-E1D6BEBDCEDF}"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07640" y="764640"/>
            <a:ext cx="7543800" cy="493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Tahoma"/>
              </a:rPr>
              <a:t>Assainissement liquid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Pour le drainage des eaux pluviales, le développement des infrastructures n’a pas suivi celui de l’urbanisation croissante et souvent non maîtrisée dans les différentes villes du Sénégal. Ceci se traduit par des inondations dans les zones dépourvues de réseau d’évacuation et même dans celles où la capacité du réseau est devenue insuffisante du fait de la mauvaise urbanisation.</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évacuation des eaux usées est à l’origine de graves problèmes de santé pour les populations, mais aussi de la dégradation de l’environnement.</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Selon les derniers recensements, seuls 13% des ménages urbains sont raccordés à l’égout, tandis que 46% ont recours aux fosses et 38% ne disposent d’aucun système d’évacuation des eaux usées </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 Dakar, 20% seulement des eaux usées collectées sont traitées par la Station de Cambérène, le reste est déversé en mer ou dans la nature.</a:t>
            </a: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56FBA90C-2D89-47D4-B7FB-5C9A88B9F4BD}" type="slidenum">
              <a:t>43</a:t>
            </a:fld>
          </a:p>
        </p:txBody>
      </p:sp>
      <p:sp>
        <p:nvSpPr>
          <p:cNvPr id="4" name="PlaceHolder 3"/>
          <p:cNvSpPr>
            <a:spLocks noGrp="1"/>
          </p:cNvSpPr>
          <p:nvPr>
            <p:ph type="dt" idx="1"/>
          </p:nvPr>
        </p:nvSpPr>
        <p:spPr/>
        <p:txBody>
          <a:bodyPr/>
          <a:p>
            <a:fld id="{4113F732-E6D8-4019-BE22-4F212F6E8C2A}"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971280" y="404280"/>
            <a:ext cx="7543800" cy="5364360"/>
          </a:xfrm>
          <a:prstGeom prst="rect">
            <a:avLst/>
          </a:prstGeom>
          <a:noFill/>
          <a:ln w="0">
            <a:noFill/>
          </a:ln>
        </p:spPr>
        <p:txBody>
          <a:bodyPr lIns="90000" rIns="90000" tIns="46800" bIns="46800" anchor="t">
            <a:normAutofit/>
          </a:bodyPr>
          <a:p>
            <a:pPr marL="343080" indent="-343080">
              <a:spcBef>
                <a:spcPts val="7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Dans la région de Dakar, la moyenne est de 24,7%, mais il existe de grandes disparités entre Dakar (47,2%) et les départements de Rufisque et de Pikine (respectivement 4,5 et 4,0%)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E01CB470-CCEB-4CB9-9153-8A9D5BD7DC08}" type="slidenum">
              <a:t>44</a:t>
            </a:fld>
          </a:p>
        </p:txBody>
      </p:sp>
      <p:sp>
        <p:nvSpPr>
          <p:cNvPr id="4" name="PlaceHolder 3"/>
          <p:cNvSpPr>
            <a:spLocks noGrp="1"/>
          </p:cNvSpPr>
          <p:nvPr>
            <p:ph type="dt" idx="1"/>
          </p:nvPr>
        </p:nvSpPr>
        <p:spPr/>
        <p:txBody>
          <a:bodyPr/>
          <a:p>
            <a:fld id="{C3BDD32C-2BB2-4A48-B489-0343A0B720C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Risque d’inondation</a:t>
            </a:r>
            <a:endParaRPr b="1" lang="en-US" sz="3200" spc="-1" strike="noStrike">
              <a:solidFill>
                <a:srgbClr val="cdd7df"/>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Elles sont devenues problématiques dans beaucoup de villes sénégalaises depuis le retour des pluies à partir de 1985 et surtout en 1989, après une décennie de faible pluviométrie. </a:t>
            </a: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Zones d’inondation à Dakar: Pikine (1989: 10 000 familles touchées)</a:t>
            </a: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Rufisque</a:t>
            </a: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aint Louis</a:t>
            </a: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atam</a:t>
            </a:r>
            <a:endParaRPr b="0" lang="en-US" sz="2400" spc="-1" strike="noStrike">
              <a:solidFill>
                <a:srgbClr val="ffffff"/>
              </a:solidFill>
              <a:latin typeface="Tahoma"/>
            </a:endParaRPr>
          </a:p>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Kaolack</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B9E2F65-52E6-4B82-9D3C-2A37DCCF2C15}" type="slidenum">
              <a:t>45</a:t>
            </a:fld>
          </a:p>
        </p:txBody>
      </p:sp>
      <p:sp>
        <p:nvSpPr>
          <p:cNvPr id="5" name="PlaceHolder 4"/>
          <p:cNvSpPr>
            <a:spLocks noGrp="1"/>
          </p:cNvSpPr>
          <p:nvPr>
            <p:ph type="dt" idx="1"/>
          </p:nvPr>
        </p:nvSpPr>
        <p:spPr/>
        <p:txBody>
          <a:bodyPr/>
          <a:p>
            <a:fld id="{4A3A8651-2486-4B6B-BD84-7EBBEAA9C662}"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Déchets dangereux</a:t>
            </a:r>
            <a:endParaRPr b="1" lang="en-US" sz="3200" spc="-1" strike="noStrike">
              <a:solidFill>
                <a:srgbClr val="cdd7df"/>
              </a:solidFill>
              <a:latin typeface="Tahoma"/>
            </a:endParaRPr>
          </a:p>
        </p:txBody>
      </p:sp>
      <p:sp>
        <p:nvSpPr>
          <p:cNvPr id="19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échets industriels</a:t>
            </a:r>
            <a:endParaRPr b="0" lang="en-US" sz="24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akar , Rufisque et Thiès principalement concernées, notamment Dakar</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retraitement des déchets industriels est peu pratiqué au Sénégal, rares sont les entreprises industrielles qui se préoccupent de leurs rejets, car elles n’en ont jusqu’à  présent pas l’obligation.</a:t>
            </a:r>
            <a:endParaRPr b="0" lang="en-US" sz="2000" spc="-1" strike="noStrike">
              <a:solidFill>
                <a:srgbClr val="ffffff"/>
              </a:solidFill>
              <a:latin typeface="Tahoma"/>
            </a:endParaRPr>
          </a:p>
          <a:p>
            <a:pPr lvl="1" marL="743040" indent="-28584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Une fois la collecte effectuée, les déchets sont dirigés vers la décharge de Mbeubeuss, où ils sont soit brûlés, soit enfouis, à quelques exceptions près. Les déchets de poisson sont retraités pour être transformés en aliment  pour bétail. Seule une infime partie des huiles de vidange est collectée sur tout l’ensemble du territoire, le reste étant enfoui à Mbeubeus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0A51787-13FA-42DB-8DEC-0C3DF7743D27}" type="slidenum">
              <a:t>46</a:t>
            </a:fld>
          </a:p>
        </p:txBody>
      </p:sp>
      <p:sp>
        <p:nvSpPr>
          <p:cNvPr id="5" name="PlaceHolder 4"/>
          <p:cNvSpPr>
            <a:spLocks noGrp="1"/>
          </p:cNvSpPr>
          <p:nvPr>
            <p:ph type="dt" idx="1"/>
          </p:nvPr>
        </p:nvSpPr>
        <p:spPr/>
        <p:txBody>
          <a:bodyPr/>
          <a:p>
            <a:fld id="{862E0B5D-12B5-4B43-8B94-5AC0CBDE5EA8}"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863280" y="620280"/>
            <a:ext cx="7543800" cy="493236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échets biomédicaux</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Sénégal produit annuellement 1 424 tonnes de déchets biomédicaux, provenant essentiellement des structures hospitalières de la région de Dakar. Les déchets infectieux représentent 68% de l’ensemble des déchets produits par les structures sanitaires contre 27% pour les déchets généraux </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échets issus du système de santé ne sont pas adéquatement pris en charge par les structures sanitaires qui selon la réglementation ont la responsabilité de leur collecte, transport et élimination. Rares sont les structures de santé qui disposent d’incinérateurs adéquats (température élevée, système de traitement fumée et poussière). En effet, seul l’hôpital Principal à Dakar dispose d’un incinérateur en état de marche.</a:t>
            </a: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4420F61A-B3CD-42A5-BAF5-3B425346A868}" type="slidenum">
              <a:t>47</a:t>
            </a:fld>
          </a:p>
        </p:txBody>
      </p:sp>
      <p:sp>
        <p:nvSpPr>
          <p:cNvPr id="4" name="PlaceHolder 3"/>
          <p:cNvSpPr>
            <a:spLocks noGrp="1"/>
          </p:cNvSpPr>
          <p:nvPr>
            <p:ph type="dt" idx="1"/>
          </p:nvPr>
        </p:nvSpPr>
        <p:spPr/>
        <p:txBody>
          <a:bodyPr/>
          <a:p>
            <a:fld id="{772F95F0-80F1-4299-A686-D87D3D857D40}"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63280" y="1015920"/>
            <a:ext cx="7543800" cy="500544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De surcroît, la plupart de ces déchets dangereux finissent par emprunter la même filière que les ordures ménagères. En effet, le mode de gestion généralement  adopté consiste soit à enfouir les déchets anatomiques, soit à les rejeter directement en mer ou encore à les mélanger avec les ordures ménagères qui sont déversés dans des décharges publiques, où ils sont stockés à l’air libre. Ces pratiques, qui ont cours dans la quasi totalité des structures hospitalières faute d’incinérateurs performants, engendrent de graves problèmes environnementaux, mais aussi  de santé publique : pollution des sols et des eaux, contamination possible de l’homme, etc… </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 volume estimé de production de déchets biomédicaux dans la région urbaine de Dakar est de 15.5 m3/ Jour soit 5658 m3/an. Ceci correspond à un tonnage de 3.9 tonnes/ jour soit 1424 tonnes/an. (1997).</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Il faut cependant noter que les structures sanitaires ne disposent d’aucune donnée sur leur production de déchets. En effet, il n’y a pas de système de suivi permettant d’enregistrer le poids et le volume des déchets produits.</a:t>
            </a:r>
            <a:endParaRPr b="0" lang="en-US" sz="1800" spc="-1" strike="noStrike">
              <a:solidFill>
                <a:srgbClr val="ffffff"/>
              </a:solidFill>
              <a:latin typeface="Tahoma"/>
            </a:endParaRPr>
          </a:p>
        </p:txBody>
      </p:sp>
      <p:sp>
        <p:nvSpPr>
          <p:cNvPr id="3" name="PlaceHolder 2"/>
          <p:cNvSpPr>
            <a:spLocks noGrp="1"/>
          </p:cNvSpPr>
          <p:nvPr>
            <p:ph type="sldNum" idx="3"/>
          </p:nvPr>
        </p:nvSpPr>
        <p:spPr/>
        <p:txBody>
          <a:bodyPr/>
          <a:p>
            <a:fld id="{AF0FE170-5FA7-4EDB-97FF-F5E8605D43B1}" type="slidenum">
              <a:t>48</a:t>
            </a:fld>
          </a:p>
        </p:txBody>
      </p:sp>
      <p:sp>
        <p:nvSpPr>
          <p:cNvPr id="4" name="PlaceHolder 3"/>
          <p:cNvSpPr>
            <a:spLocks noGrp="1"/>
          </p:cNvSpPr>
          <p:nvPr>
            <p:ph type="dt" idx="1"/>
          </p:nvPr>
        </p:nvSpPr>
        <p:spPr/>
        <p:txBody>
          <a:bodyPr/>
          <a:p>
            <a:fld id="{46D8D926-48F1-4943-ACAA-189F215C6C47}"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La pollution atmosphérique</a:t>
            </a:r>
            <a:endParaRPr b="1" lang="en-US" sz="3200" spc="-1" strike="noStrike">
              <a:solidFill>
                <a:srgbClr val="cdd7df"/>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risques de pollution atmosphérique avec l’augmentation des gaz à effet de serre, le développement du secteur industriel, énergétique et  des transports, constituent une menace réelle </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secteur des transports contribue d’une manière significative à la pollution atmosphérique au Sénégal, surtout dans les villes et plus particulièrement à Dakar. </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secteur des industries y contribue aussi, mais surtout dans la région de Dakar où la majorité des activités industrielles est concentrée. </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secteur de l’énergie contribue pour prés de la moitié (46%) des émissions de gaz à effet de serre, soit 3915,8 Gg ECO2.</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Dans ce secteur, le sous-secteur des transports est responsable de 32% des émissions car ce dernier est le premier consommateur d’énergie conventionnelle </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ménages et autres secteurs (bâtiments et divers) sont responsables de 24% des émissions </a:t>
            </a:r>
            <a:endParaRPr b="0" lang="en-US" sz="1600" spc="-1" strike="noStrike">
              <a:solidFill>
                <a:srgbClr val="ffffff"/>
              </a:solidFill>
              <a:latin typeface="Tahoma"/>
            </a:endParaRPr>
          </a:p>
          <a:p>
            <a:pPr marL="343080" indent="-343080">
              <a:lnSpc>
                <a:spcPct val="80000"/>
              </a:lnSpc>
              <a:spcBef>
                <a:spcPts val="4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s dysfonctionnements dans les transports urbains et la pollution de l’air coûteraient annuellement au Sénégal 4.6% de son PIB</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41456A59-F0BE-4802-B7EF-FBEF598F48A3}" type="slidenum">
              <a:t>49</a:t>
            </a:fld>
          </a:p>
        </p:txBody>
      </p:sp>
      <p:sp>
        <p:nvSpPr>
          <p:cNvPr id="5" name="PlaceHolder 4"/>
          <p:cNvSpPr>
            <a:spLocks noGrp="1"/>
          </p:cNvSpPr>
          <p:nvPr>
            <p:ph type="dt" idx="1"/>
          </p:nvPr>
        </p:nvSpPr>
        <p:spPr/>
        <p:txBody>
          <a:bodyPr/>
          <a:p>
            <a:fld id="{9BE305E4-E7B3-4F5E-A465-ABAA45CE2BF9}"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26920" y="54900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Objectifs </a:t>
            </a:r>
            <a:endParaRPr b="1" lang="en-US" sz="4400" spc="-1" strike="noStrike">
              <a:solidFill>
                <a:srgbClr val="cdd7df"/>
              </a:solidFill>
              <a:latin typeface="Tahoma"/>
            </a:endParaRPr>
          </a:p>
        </p:txBody>
      </p:sp>
      <p:sp>
        <p:nvSpPr>
          <p:cNvPr id="120" name="PlaceHolder 2"/>
          <p:cNvSpPr>
            <a:spLocks noGrp="1"/>
          </p:cNvSpPr>
          <p:nvPr>
            <p:ph/>
          </p:nvPr>
        </p:nvSpPr>
        <p:spPr>
          <a:xfrm>
            <a:off x="1763640" y="1521000"/>
            <a:ext cx="5587920" cy="3736800"/>
          </a:xfrm>
          <a:prstGeom prst="rect">
            <a:avLst/>
          </a:prstGeom>
          <a:noFill/>
          <a:ln w="0">
            <a:noFill/>
          </a:ln>
        </p:spPr>
        <p:txBody>
          <a:bodyPr lIns="92160" rIns="92160" tIns="46080" bIns="46080" anchor="t">
            <a:normAutofit fontScale="82000"/>
          </a:bodyPr>
          <a:p>
            <a:pPr marL="281160" indent="-28116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bjectif global: mettre en lumière les insuffisances, contraintes et défis qui entravent le développement tant à l’échelle nationale que locale</a:t>
            </a:r>
            <a:endParaRPr b="0" lang="en-US" sz="2000" spc="-1" strike="noStrike">
              <a:solidFill>
                <a:srgbClr val="ffffff"/>
              </a:solidFill>
              <a:latin typeface="Tahoma"/>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281160" indent="-28116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bjectifs spécifiques:</a:t>
            </a:r>
            <a:endParaRPr b="0" lang="en-US" sz="2000" spc="-1" strike="noStrike">
              <a:solidFill>
                <a:srgbClr val="ffffff"/>
              </a:solidFill>
              <a:latin typeface="Tahoma"/>
            </a:endParaRPr>
          </a:p>
          <a:p>
            <a:pPr lvl="1" marL="609120" indent="-2343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xaminer et évaluer les besoins en développement de capacités en gestion urbaine</a:t>
            </a:r>
            <a:endParaRPr b="0" lang="en-US" sz="20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09120" indent="-2343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écrire, évaluer et identifier les implications réglementaire, institutionnels et politiques et les pratiques existantes</a:t>
            </a:r>
            <a:endParaRPr b="0" lang="en-US" sz="20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09120" indent="-23436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Fournir un cadre d’intervention pour les stratégies de lutte contre la pauvreté et le développement durabl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AD6A7421-10D2-45AF-9BAE-26FD55307D33}" type="slidenum">
              <a:t>5</a:t>
            </a:fld>
          </a:p>
        </p:txBody>
      </p:sp>
      <p:sp>
        <p:nvSpPr>
          <p:cNvPr id="5" name="PlaceHolder 4"/>
          <p:cNvSpPr>
            <a:spLocks noGrp="1"/>
          </p:cNvSpPr>
          <p:nvPr>
            <p:ph type="dt" idx="1"/>
          </p:nvPr>
        </p:nvSpPr>
        <p:spPr/>
        <p:txBody>
          <a:bodyPr/>
          <a:p>
            <a:fld id="{AEBA207B-43D6-4906-AB67-E6BB700FC8BB}"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La pollution industrielle</a:t>
            </a:r>
            <a:endParaRPr b="1" lang="en-US" sz="3200" spc="-1" strike="noStrike">
              <a:solidFill>
                <a:srgbClr val="cdd7df"/>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activités industrielles dont près de 90% sont concentrées dans la région de Dakar, essentiellement dans la zone industrielle de Hann Bel-Air, sont à l’origine de problèmes environnementaux et de sécurité des populations.</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Risques:</a:t>
            </a:r>
            <a:endParaRPr b="0" lang="en-US" sz="18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pas traitement des déchets solides, liquides et gazeux rejetés par les unités industrielles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non existence de périmètre de sécurité entre les unités industrielles et les zones résidentielles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anipulation et le transport hors normes prescrites de sécurité de produits chimiques et d’hydrocarbures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niveau d’éducation très bas des ouvriers dans les industries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insuffisance des moyens (humains et matériels) de contrôle des rejets industriels ;</a:t>
            </a:r>
            <a:endParaRPr b="0" lang="en-US" sz="1600" spc="-1" strike="noStrike">
              <a:solidFill>
                <a:srgbClr val="ffffff"/>
              </a:solidFill>
              <a:latin typeface="Tahoma"/>
            </a:endParaRPr>
          </a:p>
          <a:p>
            <a:pPr lvl="1" marL="743040" indent="-28584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non respect des dispositions législatives et réglementaires relatives à l’environnement.</a:t>
            </a:r>
            <a:endParaRPr b="0" lang="en-US" sz="1600" spc="-1" strike="noStrike">
              <a:solidFill>
                <a:srgbClr val="ffffff"/>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8A561A47-661E-45D2-A0F9-896ACBF35F42}" type="slidenum">
              <a:t>50</a:t>
            </a:fld>
          </a:p>
        </p:txBody>
      </p:sp>
      <p:sp>
        <p:nvSpPr>
          <p:cNvPr id="5" name="PlaceHolder 4"/>
          <p:cNvSpPr>
            <a:spLocks noGrp="1"/>
          </p:cNvSpPr>
          <p:nvPr>
            <p:ph type="dt" idx="1"/>
          </p:nvPr>
        </p:nvSpPr>
        <p:spPr/>
        <p:txBody>
          <a:bodyPr/>
          <a:p>
            <a:fld id="{7BEEC099-E8C1-4809-BCB0-409D3A1609CC}"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La pollution des baies</a:t>
            </a:r>
            <a:endParaRPr b="1" lang="en-US" sz="3200" spc="-1" strike="noStrike">
              <a:solidFill>
                <a:srgbClr val="cdd7df"/>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Baie de Hann principalement: écosystème naturel fragile, peu profonde avec une influence des courants presque nulle; ce qui ne favorise pas un renouvellement régulier des eaux </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lution par les industries: menace pour les espèces marines </a:t>
            </a:r>
            <a:endParaRPr b="0" lang="en-US" sz="2400" spc="-1" strike="noStrike">
              <a:solidFill>
                <a:srgbClr val="ffffff"/>
              </a:solidFill>
              <a:latin typeface="Tahoma"/>
            </a:endParaRPr>
          </a:p>
          <a:p>
            <a:pPr lvl="2" marL="1143000" indent="-228600">
              <a:lnSpc>
                <a:spcPct val="90000"/>
              </a:lnSpc>
              <a:spcBef>
                <a:spcPts val="499"/>
              </a:spcBef>
              <a:buClr>
                <a:srgbClr val="00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roissance excessive des algues dans la baie</a:t>
            </a:r>
            <a:endParaRPr b="0" lang="en-US" sz="2000" spc="-1" strike="noStrike">
              <a:solidFill>
                <a:srgbClr val="ffffff"/>
              </a:solidFill>
              <a:latin typeface="Tahoma"/>
            </a:endParaRPr>
          </a:p>
          <a:p>
            <a:pPr lvl="2" marL="1143000" indent="-228600">
              <a:lnSpc>
                <a:spcPct val="90000"/>
              </a:lnSpc>
              <a:spcBef>
                <a:spcPts val="499"/>
              </a:spcBef>
              <a:buClr>
                <a:srgbClr val="00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deurs nauséabondes</a:t>
            </a:r>
            <a:endParaRPr b="0" lang="en-US" sz="2000" spc="-1" strike="noStrike">
              <a:solidFill>
                <a:srgbClr val="ffffff"/>
              </a:solidFill>
              <a:latin typeface="Tahoma"/>
            </a:endParaRPr>
          </a:p>
          <a:p>
            <a:pPr lvl="2" marL="1143000" indent="-228600">
              <a:lnSpc>
                <a:spcPct val="90000"/>
              </a:lnSpc>
              <a:spcBef>
                <a:spcPts val="499"/>
              </a:spcBef>
              <a:buClr>
                <a:srgbClr val="00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épercussions négatives sur les activités récréatives, notamment le touris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255999C-364F-4957-895C-ABD8E82A1996}" type="slidenum">
              <a:t>51</a:t>
            </a:fld>
          </a:p>
        </p:txBody>
      </p:sp>
      <p:sp>
        <p:nvSpPr>
          <p:cNvPr id="5" name="PlaceHolder 4"/>
          <p:cNvSpPr>
            <a:spLocks noGrp="1"/>
          </p:cNvSpPr>
          <p:nvPr>
            <p:ph type="dt" idx="1"/>
          </p:nvPr>
        </p:nvSpPr>
        <p:spPr/>
        <p:txBody>
          <a:bodyPr/>
          <a:p>
            <a:fld id="{BE9D4417-F0E2-4F85-A41E-E68FD5C8034F}"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La pollution des eaux</a:t>
            </a:r>
            <a:endParaRPr b="1" lang="en-US" sz="3200" spc="-1" strike="noStrike">
              <a:solidFill>
                <a:srgbClr val="cdd7df"/>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ur toute la presqu’île du Cap Vert et dans les centres urbains (Saint Louis, Rufisque, etc.):</a:t>
            </a:r>
            <a:endParaRPr b="0" lang="en-US" sz="2400" spc="-1" strike="noStrike">
              <a:solidFill>
                <a:srgbClr val="ffffff"/>
              </a:solidFill>
              <a:latin typeface="Tahoma"/>
            </a:endParaRPr>
          </a:p>
          <a:p>
            <a:pPr marL="335880" indent="-3358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lution des eaux de surface</a:t>
            </a:r>
            <a:endParaRPr b="0" lang="en-US" sz="2400" spc="-1" strike="noStrike">
              <a:solidFill>
                <a:srgbClr val="ffffff"/>
              </a:solidFill>
              <a:latin typeface="Tahoma"/>
            </a:endParaRPr>
          </a:p>
          <a:p>
            <a:pPr marL="335880" indent="-3358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llution des nappes phréatiques</a:t>
            </a:r>
            <a:endParaRPr b="0" lang="en-US" sz="2400" spc="-1" strike="noStrike">
              <a:solidFill>
                <a:srgbClr val="ffffff"/>
              </a:solidFill>
              <a:latin typeface="Tahoma"/>
            </a:endParaRPr>
          </a:p>
          <a:p>
            <a:pPr marL="335880" indent="-3358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c de Guiers : principale source d’approvisionnement en eau potable. Mais menacée par les eaux de drainage des casiers de la CSS à Richard Toll très chargés en sels, en pesticides et en engrais. En 1991 déjà, ces rejets d’eaux usées étaient estimés à 33 millions de m3, avec une teneur en chlorure de 250 à 300 mg/litre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70E59FB-E3BF-4F27-AAF4-D5C694ACCB05}" type="slidenum">
              <a:t>52</a:t>
            </a:fld>
          </a:p>
        </p:txBody>
      </p:sp>
      <p:sp>
        <p:nvSpPr>
          <p:cNvPr id="5" name="PlaceHolder 4"/>
          <p:cNvSpPr>
            <a:spLocks noGrp="1"/>
          </p:cNvSpPr>
          <p:nvPr>
            <p:ph type="dt" idx="1"/>
          </p:nvPr>
        </p:nvSpPr>
        <p:spPr/>
        <p:txBody>
          <a:bodyPr/>
          <a:p>
            <a:fld id="{BA55558C-92CB-4AA1-853F-75B24E12A425}"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Erosion marine</a:t>
            </a:r>
            <a:endParaRPr b="1" lang="en-US" sz="3200" spc="-1" strike="noStrike">
              <a:solidFill>
                <a:srgbClr val="cdd7df"/>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Sénégal, les phénomènes d’érosion côtière existent dans presque toutes les villes (et certains quartiers de Dakar) situées sur le littoral (Saint Louis, Cambérène, Yoff, Dakar, Rufisque, Joal).</a:t>
            </a:r>
            <a:endParaRPr b="0" lang="en-US" sz="2400" spc="-1" strike="noStrike">
              <a:solidFill>
                <a:srgbClr val="ffffff"/>
              </a:solidFill>
              <a:latin typeface="Tahoma"/>
            </a:endParaRPr>
          </a:p>
          <a:p>
            <a:pPr marL="339480" indent="-3394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Dakar, en plus des causes naturelles, le phénomène d’avancée de lamer est aggravé par l’extraction de sable. </a:t>
            </a:r>
            <a:endParaRPr b="0" lang="en-US" sz="2400" spc="-1" strike="noStrike">
              <a:solidFill>
                <a:srgbClr val="ffffff"/>
              </a:solidFill>
              <a:latin typeface="Tahoma"/>
            </a:endParaRPr>
          </a:p>
          <a:p>
            <a:pPr marL="339480" indent="-3394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endant l’hivernage, le phénomène est plus grave car il occasionne des inondations dans les villages traditionnels de la région de Dakar et dans la ville de Rufisque. n période d’hivernage, l’érosion mécanique du littoral s’amplifie avec les eaux de ruissellement.</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3CE993F0-EA44-4D2E-94C9-F56A55952F74}" type="slidenum">
              <a:t>53</a:t>
            </a:fld>
          </a:p>
        </p:txBody>
      </p:sp>
      <p:sp>
        <p:nvSpPr>
          <p:cNvPr id="5" name="PlaceHolder 4"/>
          <p:cNvSpPr>
            <a:spLocks noGrp="1"/>
          </p:cNvSpPr>
          <p:nvPr>
            <p:ph type="dt" idx="1"/>
          </p:nvPr>
        </p:nvSpPr>
        <p:spPr/>
        <p:txBody>
          <a:bodyPr/>
          <a:p>
            <a:fld id="{71FE32FB-B5D0-4556-8D78-EEB190A8C526}"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Pollution marine</a:t>
            </a:r>
            <a:endParaRPr b="1" lang="en-US" sz="3200" spc="-1" strike="noStrike">
              <a:solidFill>
                <a:srgbClr val="cdd7df"/>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lle tend à se développer rapidement à Dakar, Saint-Louis et tout le long de la Petite Côte, première zone de production ostréicole et halieutique du pays.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lle est due au déversement d’une partie des eaux usées, des déchets industriels (dont des hydrocarbures) et ménagers en mer, sans traitement.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important trafic maritime (en particulier pétrolier) passant au large des côtes représente aussi une menace permanente.</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Dans un pays comme le Sénégal, où 80 % des unités touristiques et la quasi-totalité des zones industrielles sont localisées sur le littoral, la gestion des zones côtières est une nécessité, ce qui explique qu’il y existe depuis 1900 une loi de protection du domaine mariti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82347EB-D408-4BF7-8C13-991FED44773E}" type="slidenum">
              <a:t>54</a:t>
            </a:fld>
          </a:p>
        </p:txBody>
      </p:sp>
      <p:sp>
        <p:nvSpPr>
          <p:cNvPr id="5" name="PlaceHolder 4"/>
          <p:cNvSpPr>
            <a:spLocks noGrp="1"/>
          </p:cNvSpPr>
          <p:nvPr>
            <p:ph type="dt" idx="1"/>
          </p:nvPr>
        </p:nvSpPr>
        <p:spPr/>
        <p:txBody>
          <a:bodyPr/>
          <a:p>
            <a:fld id="{E5C9B3BC-5C7F-49BA-A2B9-8D92DDD596D2}"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Les menaces sur les Niayes</a:t>
            </a:r>
            <a:endParaRPr b="1" lang="en-US" sz="3200" spc="-1" strike="noStrike">
              <a:solidFill>
                <a:srgbClr val="cdd7df"/>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région des Niayes s’inscrit administrativement dans les quatre régions bordant la frange maritime du nord du pays : Dakar, Thiès, Louga et Saint-Louis. Elle s’étire sur une longueur de 180 km, et sa largeur varie de 5 à 30 km à l’intérieur des terres. Elle est généralement limitée dans sa partie intérieure par la route nationale Dakar-Saint-Louis. Elle constitue un milieu assez original caractérisé par des dunes et des dépressions souvent inondées par l’affleurement de la nappe phréatique et par un climat assez favorable. Ce milieu n’a pas manqué d’attirer la population et de donner également à la région toute sa vocation agronomique </a:t>
            </a:r>
            <a:endParaRPr b="0" lang="en-US" sz="2000" spc="-1" strike="noStrike">
              <a:solidFill>
                <a:srgbClr val="ffffff"/>
              </a:solidFill>
              <a:latin typeface="Tahoma"/>
            </a:endParaRPr>
          </a:p>
          <a:p>
            <a:pPr marL="343080" indent="-343080">
              <a:lnSpc>
                <a:spcPct val="80000"/>
              </a:lnSpc>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st la zone de prédilection du maraîchage, avec des sols riches et des potentialités hydriques importantes.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1923502-EF4D-44A2-9E21-F4B13962282D}" type="slidenum">
              <a:t>55</a:t>
            </a:fld>
          </a:p>
        </p:txBody>
      </p:sp>
      <p:sp>
        <p:nvSpPr>
          <p:cNvPr id="5" name="PlaceHolder 4"/>
          <p:cNvSpPr>
            <a:spLocks noGrp="1"/>
          </p:cNvSpPr>
          <p:nvPr>
            <p:ph type="dt" idx="1"/>
          </p:nvPr>
        </p:nvSpPr>
        <p:spPr/>
        <p:txBody>
          <a:bodyPr/>
          <a:p>
            <a:fld id="{A5155AC6-CF24-4CAA-9240-F704ADA1138C}"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066320" y="441000"/>
            <a:ext cx="7543800" cy="56545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Cependant, cette zone connaît des problèmes importants : </a:t>
            </a:r>
            <a:endParaRPr b="0" lang="en-US" sz="24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unes menacent les cultures maraîchères (ensablement des cuvettes maraîchères d’où proviennent près de 80% de la production horticole du pays ) et les routes; </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sols et les puits sont salinisés et les zones basses ont récemment été recouvertes de sable; </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 couvert végétal est dégradé sous l'effet combiné de la baisse de pluviométrie, des autres phénomènes naturels et des activités socio-économiques (déboisement, extension des cultures, développement des mines et carrières, concentration de cheptel);</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 </a:t>
            </a:r>
            <a:r>
              <a:rPr b="0" lang="fr-FR" sz="2000" spc="-1" strike="noStrike">
                <a:solidFill>
                  <a:srgbClr val="ffffff"/>
                </a:solidFill>
                <a:latin typeface="Tahoma"/>
              </a:rPr>
              <a:t>Les réserves d'eau de surface ont disparu; </a:t>
            </a:r>
            <a:endParaRPr b="0" lang="en-US" sz="2000" spc="-1" strike="noStrike">
              <a:solidFill>
                <a:srgbClr val="ffffff"/>
              </a:solidFill>
              <a:latin typeface="Tahoma"/>
            </a:endParaRPr>
          </a:p>
          <a:p>
            <a:pPr lvl="1" marL="727920" indent="-280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forte urbanisation entraîne des difficultés de recharge de la nappe infrabasaltique du fait d'une imperméabilité progressive de la surface d'infiltration dans l'agglomération dakaroise (routes, habitats en dur, etc.). </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3" name="PlaceHolder 2"/>
          <p:cNvSpPr>
            <a:spLocks noGrp="1"/>
          </p:cNvSpPr>
          <p:nvPr>
            <p:ph type="sldNum" idx="3"/>
          </p:nvPr>
        </p:nvSpPr>
        <p:spPr/>
        <p:txBody>
          <a:bodyPr/>
          <a:p>
            <a:fld id="{CCDD5E23-5703-4682-B1FF-1E4E26CDEFA0}" type="slidenum">
              <a:t>56</a:t>
            </a:fld>
          </a:p>
        </p:txBody>
      </p:sp>
      <p:sp>
        <p:nvSpPr>
          <p:cNvPr id="4" name="PlaceHolder 3"/>
          <p:cNvSpPr>
            <a:spLocks noGrp="1"/>
          </p:cNvSpPr>
          <p:nvPr>
            <p:ph type="dt" idx="1"/>
          </p:nvPr>
        </p:nvSpPr>
        <p:spPr/>
        <p:txBody>
          <a:bodyPr/>
          <a:p>
            <a:fld id="{40BC85B5-2873-4EA0-AF25-633D53A26360}"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dd7df"/>
                </a:solidFill>
                <a:latin typeface="Tahoma"/>
              </a:rPr>
              <a:t>Ressources végétales et déforestation</a:t>
            </a:r>
            <a:endParaRPr b="1" lang="en-US" sz="3200" spc="-1" strike="noStrike">
              <a:solidFill>
                <a:srgbClr val="cdd7df"/>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espaces boisés se raréfient de plus en plus dans les villes sénégalaises à cause de l’extension urbaine.</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Ceci est surtout vérifiable à Dakar où les espaces boisés les plus importants qui existent encore sont le parc forestier et zoologique de Hann (80 ha), une partie de la zone des Niayes (entre Patte d’Oie et Camberene).  </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absence de disponibilité foncière ne permet plus le développement de massifs forestiers mais plutôt celui des plantations d’alignement et l’aménagement des parcs et jardins. Plusieurs plantations sont en développement le long des axes routiers où on assiste même à une meilleure protection des plants contre les animaux en divagation et une mise en place de systèmes d’arrosage. </a:t>
            </a:r>
            <a:endParaRPr b="0" lang="en-US" sz="1800" spc="-1" strike="noStrike">
              <a:solidFill>
                <a:srgbClr val="ffffff"/>
              </a:solidFill>
              <a:latin typeface="Tahoma"/>
            </a:endParaRPr>
          </a:p>
          <a:p>
            <a:pPr marL="343080" indent="-343080">
              <a:lnSpc>
                <a:spcPct val="80000"/>
              </a:lnSpc>
              <a:spcBef>
                <a:spcPts val="45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alternative que représente la réutilisation des eaux usées expérimentée dans l’agriculture urbaine n’est pas encore introduite pour l’arrosage des plantations et leurs apports éléments nutritifs.</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2DBC2D59-25E3-4A01-BF39-4FF481F4BCD4}" type="slidenum">
              <a:t>57</a:t>
            </a:fld>
          </a:p>
        </p:txBody>
      </p:sp>
      <p:sp>
        <p:nvSpPr>
          <p:cNvPr id="5" name="PlaceHolder 4"/>
          <p:cNvSpPr>
            <a:spLocks noGrp="1"/>
          </p:cNvSpPr>
          <p:nvPr>
            <p:ph type="dt" idx="1"/>
          </p:nvPr>
        </p:nvSpPr>
        <p:spPr/>
        <p:txBody>
          <a:bodyPr/>
          <a:p>
            <a:fld id="{BD3BE1B4-0401-44E5-9467-5E690182474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475920"/>
            <a:ext cx="6095880" cy="1274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Méthodologie </a:t>
            </a:r>
            <a:endParaRPr b="1" lang="en-US" sz="4400" spc="-1" strike="noStrike">
              <a:solidFill>
                <a:srgbClr val="cdd7df"/>
              </a:solidFill>
              <a:latin typeface="Tahoma"/>
            </a:endParaRPr>
          </a:p>
        </p:txBody>
      </p:sp>
      <p:sp>
        <p:nvSpPr>
          <p:cNvPr id="122" name="PlaceHolder 2"/>
          <p:cNvSpPr>
            <a:spLocks noGrp="1"/>
          </p:cNvSpPr>
          <p:nvPr>
            <p:ph/>
          </p:nvPr>
        </p:nvSpPr>
        <p:spPr>
          <a:xfrm>
            <a:off x="431280" y="1665360"/>
            <a:ext cx="8317080" cy="3744720"/>
          </a:xfrm>
          <a:prstGeom prst="rect">
            <a:avLst/>
          </a:prstGeom>
          <a:noFill/>
          <a:ln w="0">
            <a:noFill/>
          </a:ln>
        </p:spPr>
        <p:txBody>
          <a:bodyPr lIns="92160" rIns="92160" tIns="46080" bIns="46080" anchor="t">
            <a:normAutofit fontScale="72000"/>
          </a:bodyPr>
          <a:p>
            <a:pPr marL="246960" indent="-246960">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Présentation de l’étude aux autorités nationales, locales et aux partenaires au développement</a:t>
            </a:r>
            <a:endParaRPr b="0" lang="en-US" sz="2000" spc="-1" strike="noStrike">
              <a:solidFill>
                <a:srgbClr val="ffffff"/>
              </a:solidFill>
              <a:latin typeface="Tahoma"/>
            </a:endParaRPr>
          </a:p>
          <a:p>
            <a:pPr marL="246960" indent="-246960">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éalisation des Profils de ville</a:t>
            </a:r>
            <a:endParaRPr b="0" lang="en-US" sz="2000" spc="-1" strike="noStrike">
              <a:solidFill>
                <a:srgbClr val="ffffff"/>
              </a:solidFill>
              <a:latin typeface="Tahoma"/>
            </a:endParaRPr>
          </a:p>
          <a:p>
            <a:pPr lvl="1" marL="534960" indent="-2055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evue documentaire</a:t>
            </a:r>
            <a:endParaRPr b="0" lang="en-US" sz="2000" spc="-1" strike="noStrike">
              <a:solidFill>
                <a:srgbClr val="ffffff"/>
              </a:solidFill>
              <a:latin typeface="Tahoma"/>
            </a:endParaRPr>
          </a:p>
          <a:p>
            <a:pPr lvl="1" marL="534960" indent="-2055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dentification des acteurs</a:t>
            </a:r>
            <a:endParaRPr b="0" lang="en-US" sz="2000" spc="-1" strike="noStrike">
              <a:solidFill>
                <a:srgbClr val="ffffff"/>
              </a:solidFill>
              <a:latin typeface="Tahoma"/>
            </a:endParaRPr>
          </a:p>
          <a:p>
            <a:pPr lvl="1" marL="534960" indent="-20556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Entretiens</a:t>
            </a:r>
            <a:endParaRPr b="0" lang="en-US" sz="2000" spc="-1" strike="noStrike">
              <a:solidFill>
                <a:srgbClr val="ffffff"/>
              </a:solidFill>
              <a:latin typeface="Tahoma"/>
            </a:endParaRPr>
          </a:p>
          <a:p>
            <a:pPr lvl="1" marL="534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tte étape a permis de passer en revue le cadre institutionnel, législatif et réglementaire des problématiques adressées et d’aborder les questions de la mobilisation des ressources, du développement et du renforcement de capacités des acteurs</a:t>
            </a:r>
            <a:endParaRPr b="0" lang="en-US" sz="2000" spc="-1" strike="noStrike">
              <a:solidFill>
                <a:srgbClr val="ffffff"/>
              </a:solidFill>
              <a:latin typeface="Tahoma"/>
            </a:endParaRPr>
          </a:p>
          <a:p>
            <a:pPr marL="246960" indent="-246960">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elier de validation du profil de ville avec les acteurs locaux</a:t>
            </a:r>
            <a:endParaRPr b="0" lang="en-US" sz="2000" spc="-1" strike="noStrike">
              <a:solidFill>
                <a:srgbClr val="ffffff"/>
              </a:solidFill>
              <a:latin typeface="Tahoma"/>
            </a:endParaRPr>
          </a:p>
          <a:p>
            <a:pPr marL="246960" indent="-246960">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Réalisation du Profil national : approche identique à celle de la ville </a:t>
            </a:r>
            <a:endParaRPr b="0" lang="en-US" sz="2000" spc="-1" strike="noStrike">
              <a:solidFill>
                <a:srgbClr val="ffffff"/>
              </a:solidFill>
              <a:latin typeface="Tahoma"/>
            </a:endParaRPr>
          </a:p>
          <a:p>
            <a:pPr marL="246960" indent="-246960">
              <a:spcBef>
                <a:spcPts val="499"/>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elier national avec les acteurs de l’Etat concernés, les autorités des villes, la société civile, les partenaires au développement</a:t>
            </a:r>
            <a:endParaRPr b="0" lang="en-US" sz="2000" spc="-1" strike="noStrike">
              <a:solidFill>
                <a:srgbClr val="ffffff"/>
              </a:solidFill>
              <a:latin typeface="Tahoma"/>
            </a:endParaRPr>
          </a:p>
          <a:p>
            <a:pPr lvl="1" marL="534960" indent="-2055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eliers SEPO: forces, faiblesses, opportunités, risques, priorités</a:t>
            </a:r>
            <a:endParaRPr b="0" lang="en-US" sz="1800" spc="-1" strike="noStrike">
              <a:solidFill>
                <a:srgbClr val="ffffff"/>
              </a:solidFill>
              <a:latin typeface="Tahoma"/>
            </a:endParaRPr>
          </a:p>
        </p:txBody>
      </p:sp>
      <p:sp>
        <p:nvSpPr>
          <p:cNvPr id="4" name="PlaceHolder 3"/>
          <p:cNvSpPr>
            <a:spLocks noGrp="1"/>
          </p:cNvSpPr>
          <p:nvPr>
            <p:ph type="sldNum" idx="3"/>
          </p:nvPr>
        </p:nvSpPr>
        <p:spPr/>
        <p:txBody>
          <a:bodyPr/>
          <a:p>
            <a:fld id="{5E21F938-2169-487A-BEE1-2281E5BD77B2}" type="slidenum">
              <a:t>6</a:t>
            </a:fld>
          </a:p>
        </p:txBody>
      </p:sp>
      <p:sp>
        <p:nvSpPr>
          <p:cNvPr id="5" name="PlaceHolder 4"/>
          <p:cNvSpPr>
            <a:spLocks noGrp="1"/>
          </p:cNvSpPr>
          <p:nvPr>
            <p:ph type="dt" idx="1"/>
          </p:nvPr>
        </p:nvSpPr>
        <p:spPr/>
        <p:txBody>
          <a:bodyPr/>
          <a:p>
            <a:fld id="{1E6124F3-C9B5-4CD7-9E8E-6F706D0CAE3D}"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441360"/>
            <a:ext cx="6095880" cy="1309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Suivi du processus</a:t>
            </a:r>
            <a:endParaRPr b="1" lang="en-US" sz="4400" spc="-1" strike="noStrike">
              <a:solidFill>
                <a:srgbClr val="cdd7df"/>
              </a:solidFill>
              <a:latin typeface="Tahoma"/>
            </a:endParaRPr>
          </a:p>
        </p:txBody>
      </p:sp>
      <p:sp>
        <p:nvSpPr>
          <p:cNvPr id="124" name="PlaceHolder 2"/>
          <p:cNvSpPr>
            <a:spLocks noGrp="1"/>
          </p:cNvSpPr>
          <p:nvPr>
            <p:ph/>
          </p:nvPr>
        </p:nvSpPr>
        <p:spPr>
          <a:xfrm>
            <a:off x="1510920" y="1665000"/>
            <a:ext cx="7404120" cy="4430520"/>
          </a:xfrm>
          <a:prstGeom prst="rect">
            <a:avLst/>
          </a:prstGeom>
          <a:noFill/>
          <a:ln w="0">
            <a:noFill/>
          </a:ln>
        </p:spPr>
        <p:txBody>
          <a:bodyPr lIns="92160" rIns="92160" tIns="46080" bIns="46080" anchor="t">
            <a:normAutofit/>
          </a:bodyPr>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s autorités nationales</a:t>
            </a:r>
            <a:endParaRPr b="0" lang="en-US" sz="24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Activités de renforcement des capacités</a:t>
            </a:r>
            <a:endParaRPr b="0" lang="en-US" sz="22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Cadre d’orientation des interventions des autorités nationales</a:t>
            </a:r>
            <a:endParaRPr b="0" lang="en-US" sz="22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s bailleurs</a:t>
            </a:r>
            <a:endParaRPr b="0" lang="en-US" sz="24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Meilleure orientation de leurs interventions</a:t>
            </a:r>
            <a:endParaRPr b="0" lang="en-US" sz="22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les autorités locales</a:t>
            </a:r>
            <a:endParaRPr b="0" lang="en-US" sz="24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Activités de renforcement des capacités</a:t>
            </a:r>
            <a:endParaRPr b="0" lang="en-US" sz="22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Cadre d’orientation des interventions des autorités locales</a:t>
            </a:r>
            <a:endParaRPr b="0" lang="en-US" sz="2200" spc="-1" strike="noStrike">
              <a:solidFill>
                <a:srgbClr val="ffffff"/>
              </a:solidFill>
              <a:latin typeface="Tahoma"/>
            </a:endParaRPr>
          </a:p>
          <a:p>
            <a:pPr marL="343080" indent="-343080">
              <a:lnSpc>
                <a:spcPct val="80000"/>
              </a:lnSpc>
              <a:spcBef>
                <a:spcPts val="601"/>
              </a:spcBef>
              <a:buClr>
                <a:srgbClr val="00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our ONU-HABITAT </a:t>
            </a:r>
            <a:endParaRPr b="0" lang="en-US" sz="24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Consolidation des outils existants</a:t>
            </a:r>
            <a:endParaRPr b="0" lang="en-US" sz="2200" spc="-1" strike="noStrike">
              <a:solidFill>
                <a:srgbClr val="ffffff"/>
              </a:solidFill>
              <a:latin typeface="Tahoma"/>
            </a:endParaRPr>
          </a:p>
          <a:p>
            <a:pPr lvl="1" marL="743040" indent="-285840">
              <a:lnSpc>
                <a:spcPct val="8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Développement de nouveaux outils de RC</a:t>
            </a:r>
            <a:endParaRPr b="0" lang="en-US" sz="2200" spc="-1" strike="noStrike">
              <a:solidFill>
                <a:srgbClr val="ffffff"/>
              </a:solidFill>
              <a:latin typeface="Tahom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
        <p:nvSpPr>
          <p:cNvPr id="4" name="PlaceHolder 3"/>
          <p:cNvSpPr>
            <a:spLocks noGrp="1"/>
          </p:cNvSpPr>
          <p:nvPr>
            <p:ph type="sldNum" idx="3"/>
          </p:nvPr>
        </p:nvSpPr>
        <p:spPr/>
        <p:txBody>
          <a:bodyPr/>
          <a:p>
            <a:fld id="{D7187A14-1F0E-4676-9339-54FC273BD008}" type="slidenum">
              <a:t>7</a:t>
            </a:fld>
          </a:p>
        </p:txBody>
      </p:sp>
      <p:sp>
        <p:nvSpPr>
          <p:cNvPr id="5" name="PlaceHolder 4"/>
          <p:cNvSpPr>
            <a:spLocks noGrp="1"/>
          </p:cNvSpPr>
          <p:nvPr>
            <p:ph type="dt" idx="1"/>
          </p:nvPr>
        </p:nvSpPr>
        <p:spPr/>
        <p:txBody>
          <a:bodyPr/>
          <a:p>
            <a:fld id="{7E18096C-5AF7-4F14-9926-748B6A9F6F72}"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3120"/>
            <a:ext cx="75438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dd7df"/>
                </a:solidFill>
                <a:latin typeface="Tahoma"/>
              </a:rPr>
              <a:t>Diagnostic du secteur urbain au Sénégal</a:t>
            </a:r>
            <a:endParaRPr b="1" lang="en-US" sz="4800" spc="-1" strike="noStrike">
              <a:solidFill>
                <a:srgbClr val="cdd7df"/>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résentation met l’accent sur les limites et insuffisances des différents secteurs diagnostiqué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bjectif principal de l’atelier étant de s’accorder sur des projets de développement et de renforcement de capacités et des projets d’investissement, la mise en lumière des limites majeures des quatre thématiques étudiées sera d’un grand apport pour orienter les actions futures.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FEA7E78-6CCE-4C7B-B244-0FDCEE47094D}" type="slidenum">
              <a:t>8</a:t>
            </a:fld>
          </a:p>
        </p:txBody>
      </p:sp>
      <p:sp>
        <p:nvSpPr>
          <p:cNvPr id="5" name="PlaceHolder 4"/>
          <p:cNvSpPr>
            <a:spLocks noGrp="1"/>
          </p:cNvSpPr>
          <p:nvPr>
            <p:ph type="dt" idx="1"/>
          </p:nvPr>
        </p:nvSpPr>
        <p:spPr/>
        <p:txBody>
          <a:bodyPr/>
          <a:p>
            <a:fld id="{36E2B7BA-CD65-4FF7-832E-DF3C62618B88}"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b009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3120"/>
            <a:ext cx="7543800" cy="1432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dd7df"/>
                </a:solidFill>
                <a:latin typeface="Tahoma"/>
              </a:rPr>
              <a:t>Habitat et conditions de vie dans les bidonvilles</a:t>
            </a:r>
            <a:endParaRPr b="1" lang="en-US" sz="4400" spc="-1" strike="noStrike">
              <a:solidFill>
                <a:srgbClr val="cdd7df"/>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2160" rIns="92160" tIns="46080" bIns="46080" anchor="t">
            <a:normAutofit fontScale="90000"/>
          </a:bodyPr>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ecteur de l’habitat au Sénégal occupe une place </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mportante tant au plan économique que social. </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logement et son équipement occupe la deuxième</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place dans les investissements de ménages (environ</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20,3% des dépenses totales). Cependant, il existe des</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isparités importantes selon la zone de résidence du</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ménage. La part du budget alloué à l’habitat :</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24% à Dakar, 28,6% dans les autres centres urbains </a:t>
            </a:r>
            <a:endParaRPr b="0" lang="en-US" sz="2400" spc="-1" strike="noStrike">
              <a:solidFill>
                <a:srgbClr val="ffffff"/>
              </a:solidFill>
              <a:latin typeface="Tahoma"/>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12% en milieu rural.</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087E66C-0D5D-4583-98A2-4357AF6FA038}" type="slidenum">
              <a:t>9</a:t>
            </a:fld>
          </a:p>
        </p:txBody>
      </p:sp>
      <p:sp>
        <p:nvSpPr>
          <p:cNvPr id="5" name="PlaceHolder 4"/>
          <p:cNvSpPr>
            <a:spLocks noGrp="1"/>
          </p:cNvSpPr>
          <p:nvPr>
            <p:ph type="dt" idx="1"/>
          </p:nvPr>
        </p:nvSpPr>
        <p:spPr/>
        <p:txBody>
          <a:bodyPr/>
          <a:p>
            <a:fld id="{809CAED4-DCD1-4F67-8390-788EAB17462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cel Tsholofelo Korth</cp:lastModifiedBy>
  <cp:lastPrinted>2009-04-22T19:24:48Z</cp:lastPrinted>
  <dcterms:modified xsi:type="dcterms:W3CDTF">2009-08-04T13:55:44Z</dcterms:modified>
  <cp:revision>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6</vt:r8>
  </property>
  <property fmtid="{D5CDD505-2E9C-101B-9397-08002B2CF9AE}" pid="3" name="Version">
    <vt:r8>2</vt:r8>
  </property>
</Properties>
</file>